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5D60-E63F-4BE9-A675-EEDBEF228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76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BC06-900E-49A8-981B-94E53E11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860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F9F1-6EFA-498C-A232-86B079FF5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616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392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876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616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392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5FE1-103C-4FEB-A579-0FBBFF67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1D76-A443-4B14-89C7-46DA7ABE4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7AE9-DF45-4CDB-9C8C-225EE078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5CF1-CC68-495A-AD8B-3BB9FD5E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E891-55B6-4A0E-87A9-BEF97885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BE66-1A7B-485E-BF67-F65ECCB5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2723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2EE3-81C4-4FE7-B942-9393E5EB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81E1-FDCE-4CE3-B08C-3152A199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E4C2-413C-49ED-8910-FC041A42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860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9581-E49E-495B-A987-F463F1B7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187C-7A9A-40AD-936E-0D1C60DF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76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1FA9-57A3-4F9A-B2C7-78FEED8F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860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A7F0-0D94-43A8-AC87-B9CE6B91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0616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8392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2876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0616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8392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B8A4-DCC6-43EE-A4A4-F44FF071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4CB8-B058-49CB-AD39-CFC40D8D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D5D2-ED76-4213-9179-F1ED8E6D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FA5B-BECD-447A-87DB-5A3D14BB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2723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8230-3500-4AE5-80BC-6D9CEF45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961B-5DFE-4FA8-9449-C6D2E509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860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907E-22E8-4111-A329-3700A314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0EC2-D8DF-4D95-A3C8-51200D3F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216080"/>
          </a:xfrm>
          <a:prstGeom prst="rect">
            <a:avLst/>
          </a:prstGeom>
          <a:solidFill>
            <a:srgbClr val="3f9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70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416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376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6ACB-ACBF-4194-AFEF-2769D9E794BA}" type="slidenum">
              <a:rPr b="0" lang="cs-CZ" sz="1400" spc="-1" strike="noStrike">
                <a:solidFill>
                  <a:srgbClr val="7376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7927920" y="0"/>
            <a:ext cx="1216080" cy="121608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0" y="0"/>
            <a:ext cx="9144000" cy="1216080"/>
          </a:xfrm>
          <a:prstGeom prst="rect">
            <a:avLst/>
          </a:prstGeom>
          <a:solidFill>
            <a:srgbClr val="3f9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7927920" y="0"/>
            <a:ext cx="1216080" cy="121608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3" descr="SFZP_H_RGB_NEW"/>
          <p:cNvPicPr/>
          <p:nvPr/>
        </p:nvPicPr>
        <p:blipFill>
          <a:blip r:embed="rId2"/>
          <a:stretch/>
        </p:blipFill>
        <p:spPr>
          <a:xfrm>
            <a:off x="468360" y="1538280"/>
            <a:ext cx="3743280" cy="1027080"/>
          </a:xfrm>
          <a:prstGeom prst="rect">
            <a:avLst/>
          </a:prstGeom>
          <a:ln w="0">
            <a:noFill/>
          </a:ln>
        </p:spPr>
      </p:pic>
      <p:pic>
        <p:nvPicPr>
          <p:cNvPr id="46" name="Obrázek 11" descr="Mozaika_prezentace_V.jpg"/>
          <p:cNvPicPr/>
          <p:nvPr/>
        </p:nvPicPr>
        <p:blipFill>
          <a:blip r:embed="rId3"/>
          <a:stretch/>
        </p:blipFill>
        <p:spPr>
          <a:xfrm>
            <a:off x="7927920" y="0"/>
            <a:ext cx="12160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70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416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94920" y="6244920"/>
            <a:ext cx="219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9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376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FA1E-F0FB-45EE-A72A-D4FE5FCA3FE8}" type="slidenum">
              <a:rPr b="0" lang="cs-CZ" sz="1400" spc="-1" strike="noStrike">
                <a:solidFill>
                  <a:srgbClr val="7376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9440" y="157320"/>
            <a:ext cx="737712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 Unicode MS"/>
              </a:rPr>
              <a:t>NPŽP 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3068280"/>
            <a:ext cx="73915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3f9c35"/>
                </a:solidFill>
                <a:latin typeface="Arial Unicode MS"/>
              </a:rPr>
              <a:t>Zlepšení funkčního stavu zeleně</a:t>
            </a:r>
            <a:endParaRPr b="1" lang="en-US" sz="34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3f9c35"/>
                </a:solidFill>
                <a:latin typeface="Arial Unicode MS"/>
              </a:rPr>
              <a:t>ve městech a obcích</a:t>
            </a:r>
            <a:endParaRPr b="1" lang="en-US" sz="34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468360" y="5776920"/>
            <a:ext cx="7056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 Unicode MS"/>
              </a:rPr>
              <a:t>Ing. Michal Slezá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Ředitel odboru realizace Národních program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0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Zlepšení funkčního stavu zeleně ve městech a obcích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11970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35800" indent="-2358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Dokumenty předkládané ke Smlouvě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6120" indent="-25128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Doklady prokazující dodržení příslušného zákona o veřejných zakázkách v aktuálním znění (na realizaci investice, odborný dozor, projektovou přípravu apod.),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6120" indent="-25128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Veškeré smlouvy o dílo včetně položkového rozpočtu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6120" indent="-25128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Rozhodnutí, závazná stanoviska či vyjádření orgánů státní správy požadovaná pro daný druh opatření příslušnými obecně závaznými právními předpisy a věcně a místně příslušnými orgány státní správy (např. územní rozhodnutí, stavební povolení či vyjádření věcně a místně příslušného orgánu státní správy, souhlas orgánů památkové péče, závazné stanovisko k zásahu do významného krajinného prvku; souhlas k odnětí půdy ze zemědělského půdního fondu podle zákona č. 334/1992 Sb., o ochraně zemědělského půdního fondu, atd.). </a:t>
            </a:r>
            <a:r>
              <a:rPr b="1" lang="cs-CZ" sz="1800" spc="-1" strike="noStrike">
                <a:solidFill>
                  <a:srgbClr val="000000"/>
                </a:solidFill>
                <a:latin typeface="Arial Unicode MS"/>
              </a:rPr>
              <a:t>Rozhodnutí vydaná ve správním řízení musí být opatřeny doložkou právní moci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6120" indent="-25128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U akcí, kde je součástí realizovaného opatření zásah do vodního toku, stanovisko správce vodního toku a vyjádření příslušného vodoprávního úřadu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756A-F138-4257-BEBC-DD076671DC0C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Diskuze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000000"/>
                </a:solidFill>
                <a:latin typeface="Arial Unicode MS"/>
              </a:rPr>
              <a:t>Prostor pro vaše dotazy. </a:t>
            </a:r>
            <a:endParaRPr b="1" lang="en-US" sz="3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A3F3-1304-4696-8FB4-2BA2F6719289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8C63-9A30-44FC-8865-B3D3CFE55D1D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 Unicode MS"/>
              </a:rPr>
              <a:t>NPŽP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Děkuji za pozornost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1692360" y="4071960"/>
            <a:ext cx="7056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 Unicode MS"/>
              </a:rPr>
              <a:t>Ing. Michal Slezá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Ředitel odboru realizace Národních program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692360" y="4935600"/>
            <a:ext cx="60944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Státní fond životního prostředí České republiky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Kaplanova 1931/1, 148 00 Praha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korespondenční a kontaktní adresa: Olbrachtova 2006/9, 140 00  Praha 4,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tel.: +420 267 994 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jmeno.prijmeni@sfzp.cz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www.sfzp.cz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Arial Unicode MS"/>
              </a:rPr>
              <a:t>  </a:t>
            </a:r>
            <a:r>
              <a:rPr b="1" lang="cs-CZ" sz="1400" spc="-1" strike="noStrike">
                <a:solidFill>
                  <a:srgbClr val="3f9c35"/>
                </a:solidFill>
                <a:latin typeface="Arial Unicode MS"/>
              </a:rPr>
              <a:t>zelená linka 800 260 500</a:t>
            </a:r>
            <a:r>
              <a:rPr b="0" lang="cs-CZ" sz="1200" spc="-1" strike="noStrike">
                <a:solidFill>
                  <a:srgbClr val="73767d"/>
                </a:solidFill>
                <a:latin typeface="Arial Unicode MS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Arial Unicode MS"/>
              </a:rPr>
              <a:t>  </a:t>
            </a: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dotazy@sfzp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SFZP_H_RGB_NEW"/>
          <p:cNvPicPr/>
          <p:nvPr/>
        </p:nvPicPr>
        <p:blipFill>
          <a:blip r:embed="rId1"/>
          <a:srcRect l="0" t="0" r="71719" b="0"/>
          <a:stretch/>
        </p:blipFill>
        <p:spPr>
          <a:xfrm>
            <a:off x="539640" y="5032440"/>
            <a:ext cx="865440" cy="839880"/>
          </a:xfrm>
          <a:prstGeom prst="rect">
            <a:avLst/>
          </a:prstGeom>
          <a:ln w="0">
            <a:noFill/>
          </a:ln>
        </p:spPr>
      </p:pic>
      <p:pic>
        <p:nvPicPr>
          <p:cNvPr id="127" name="Obrázek 7" descr="Mozaika_prezentace_V.jpg"/>
          <p:cNvPicPr/>
          <p:nvPr/>
        </p:nvPicPr>
        <p:blipFill>
          <a:blip r:embed="rId2"/>
          <a:stretch/>
        </p:blipFill>
        <p:spPr>
          <a:xfrm>
            <a:off x="7927920" y="0"/>
            <a:ext cx="121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0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Zlepšení funkčního stavu zeleně ve městech a obcích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28760" y="1600200"/>
            <a:ext cx="82152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Cíl výzvy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524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 Unicode MS"/>
              </a:rPr>
              <a:t>podpora zachování a zvyšování podílu zeleně a vodních prvků ve městech a obcích a zvyšování její funkční kvality, jak v rozvojových oblastech sídel, tak v původní zástavbě.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Oprávnění příjemci podpory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524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 Unicode MS"/>
              </a:rPr>
              <a:t>Všechny fyzické a právnické osoby, které splní předepsané podmínky Programu a Výzvy, včetně organizačních složek státu.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Termíny Výzvy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524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 Unicode MS"/>
              </a:rPr>
              <a:t>Zahájení příjmu žádostí 3. 10. 2016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524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 Unicode MS"/>
              </a:rPr>
              <a:t>Ukončení příjmu Žádostí 28. 2. 2017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Celková alokace: </a:t>
            </a: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40 mil Kč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B0E8-80D1-4387-A941-C8DBC8E84B25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0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Zlepšení funkčního stavu zeleně ve městech a obcích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2800" indent="-262800">
              <a:spcBef>
                <a:spcPts val="55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 Unicode MS"/>
              </a:rPr>
              <a:t>Podporované aktivity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8920" indent="-280080">
              <a:spcBef>
                <a:spcPts val="55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 Unicode MS"/>
              </a:rPr>
              <a:t>Zakládání a obnova ploch zeleně včetně doprovodných vodních prvků přírodě blízkého charakteru a realizace opatření k zajištění podmínek pro existenci volně žijících živočichů v sídlech. </a:t>
            </a:r>
            <a:r>
              <a:rPr b="0" lang="cs-CZ" sz="22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8920" indent="-280080">
              <a:spcBef>
                <a:spcPts val="55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 Unicode MS"/>
              </a:rPr>
              <a:t>pořízení nového, či rekonstrukce stávajícího mobiliáře; 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8920" indent="-280080">
              <a:spcBef>
                <a:spcPts val="55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 Unicode MS"/>
              </a:rPr>
              <a:t>přeměna nepropustných povrchů na propustné či polopropustné, obnova a budování cest, pěšin a mostků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marL="262800" indent="-262800">
              <a:spcBef>
                <a:spcPts val="55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 Unicode MS"/>
              </a:rPr>
              <a:t>Forma a výše podpory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8920" indent="-28008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Max. </a:t>
            </a:r>
            <a:r>
              <a:rPr b="1" lang="cs-CZ" sz="2000" spc="-1" strike="noStrike">
                <a:solidFill>
                  <a:srgbClr val="000000"/>
                </a:solidFill>
                <a:latin typeface="Arial Unicode MS"/>
              </a:rPr>
              <a:t>2 mil. Kč </a:t>
            </a: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na jeden projekt v obcích do 500 obyvat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8920" indent="-28008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Maxi. </a:t>
            </a:r>
            <a:r>
              <a:rPr b="1" lang="cs-CZ" sz="2000" spc="-1" strike="noStrike">
                <a:solidFill>
                  <a:srgbClr val="000000"/>
                </a:solidFill>
                <a:latin typeface="Arial Unicode MS"/>
              </a:rPr>
              <a:t>250 tisíc Kč </a:t>
            </a: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na jeden projekt v obcích nad 500 obyvatel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8920" indent="-28008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Procentní míra podpory </a:t>
            </a:r>
            <a:r>
              <a:rPr b="1" lang="cs-CZ" sz="2000" spc="-1" strike="noStrike">
                <a:solidFill>
                  <a:srgbClr val="000000"/>
                </a:solidFill>
                <a:latin typeface="Arial Unicode MS"/>
              </a:rPr>
              <a:t>80 %</a:t>
            </a: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 z celkových způsobilých výdajů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08520" indent="-22392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08520" indent="-22392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262800" indent="-262800">
              <a:spcBef>
                <a:spcPts val="45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6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3F49-310B-4950-BA80-BCB6AB1C3681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0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Zlepšení funkčního stavu zeleně ve městech a obcích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95280" y="134136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0400" indent="-230400">
              <a:spcBef>
                <a:spcPts val="55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 Unicode MS"/>
              </a:rPr>
              <a:t>Kritéria přijatelnosti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9560" indent="-24552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obsahuje dostatečné zhodnocení stávajícího stavu území (biodiverzity a ekologické stability);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9560" indent="-24552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obsahuje dostatečné zhodnocení vlivu průběhu realizace opatření na biodiverzitu a funkce ekosystémů a v případě existence negativních vlivů jsou navržena dostatečná opatření k jejich eliminaci či minimalizaci;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9560" indent="-24552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míra zpracování projektové dokumentace umožňuje posouzení navrhovaného opatření a je dostatečným podkladem pro realizaci i následnou kontrolu;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9560" indent="-24552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není v rozporu s územně plánovací dokumentací nebo schválenými pozemkovými úpravami;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9560" indent="-24552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nezpůsobí svojí realizací významný pokles biodiverzity v lokalitě a zároveň nedojde k nevratnému negativnímu ovlivnění nebo zásahu do biotopů zvláště chráněných nebo ohrožených druhů rostlin a živočichů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60560" indent="-19656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60560" indent="-19656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230400" indent="-230400">
              <a:spcBef>
                <a:spcPts val="45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F579-6F4B-4346-BE30-A51DBA904765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0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Zlepšení funkčního stavu zeleně ve městech a obcích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5280" y="134136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3720" indent="-243720">
              <a:spcBef>
                <a:spcPts val="55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 Unicode MS"/>
              </a:rPr>
              <a:t>Podmínky pro poskytnutí podpory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0960" indent="-259920"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ředmět podpory musí být realizován na plochách, které jsou nebo budou součástí veřejné zeleně, která je přístupná každému bez omezení nebo součástí zeleně na jiných plochách, přičemž i tato zeleň musí být alespoň omezeně přístupná Předmětem podpory nemůže být podpora zakládání nebo obnovy veřejně nepřístupné zeleně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0960" indent="-259920"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V případě obcí, které mají schválený územní plán – další specifické podmínky, viz bod 14.1.1 výzv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0960" indent="-259920"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rojekt musí být realizován z většiny, tedy více jak z 50 %, uvnitř zastavěného nebo zastavitelného území obce.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43720" indent="-243720"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D053-841F-4839-B2BA-6F0AC5C92EF1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0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Zlepšení funkčního stavu zeleně ve městech a obcích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5280" y="134136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46600" indent="-2466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Způsobilé výdaje pro podporovanou aktivitu: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9240" indent="-26280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Projektová příprava, max. 10 % z realizačních ZV;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9240" indent="-26280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Výdaje na služby či dodávky a související stavební práce přímo související s výsadbou dřevin a na dokončovací a rozvojovou péči (nejdéle po dobu 3 let od ukončení realizace výsadeb);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9240" indent="-26280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výdaje na ochranu dřevin a ošetření stávajících dřevin (výchovný, zdravotní a bezpečnostní řez, stabilizační opatření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9240" indent="-26280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výdaje na opatření k zajištění podmínek pro existenci volně žijících živočichů a na podporu biodiverzity v sídlech (tvorba úkrytů pro plazy a drobné obratlovce, podpora hnízdění ptáků, apod.);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9240" indent="-26280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kácení dřevin je způsobilým výdajem pouze v případě, že bude prokazatelně nezbytné k založení nové zeleně, případně k revitalizaci stávající zeleně (důvodem bude zejména špatný zdravotní stav dřevin, rizikovost vůči okolí). Důvody kácení budou vždy podloženy dendrologickým průzkumem a v případě, že z pokácené dřevní hmoty vznikne příjem, musí být tento příjem přiznán poskytovateli dotace.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0D6D-380B-4B8E-A567-A2B6D9CFE07F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0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Zlepšení funkčního stavu zeleně ve městech a obcích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126828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0400" indent="-2304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Způsobilé výdaje související s podporovanou aktivitou (max. do výše 40 % z CZV):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9560" indent="-24552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výdaje na demolici stávajících nefunkčních zařízení ve veřejných prostranstvích a následná rekultivace těchto ploch v souladu s daným prostředím, výdaje na přeměnu nepropustných ploch na plochy propustné a polopropustné (např. štěrkové trávníky, zatravňovací dlaždice), rekonstrukce a realizace propustných a polopropustných cest a pěšin z přírodních materiálů (např. štěrk, kámen, mlat, písek), mostků, propustí, chodníků, včetně terénních úprav;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9560" indent="-24552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výdaje na obnovu a zakládání doprovodných vodních prvků a ploch přírodě blízkého charakteru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9560" indent="-24552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výdaje na opatření ke zvýšení infiltrace srážkových vod na plochách zakládané a regenerované zeleně, a to včetně nezbytných přímo souvisejících technických opatření,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9560" indent="-24552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výdaje na pořízení a instalaci nového, či rekonstrukce stávajícího mobiliáře (výše podpory u těchto opatření je maximálně do výše 20 % celkových způsobilých výdajů)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8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0C8C-5F9D-46B2-B924-8E04425FC07C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0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Zlepšení funkčního stavu zeleně ve městech a obcích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5280" y="14130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1200" indent="-241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Administrace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487080" indent="-257040">
              <a:spcBef>
                <a:spcPts val="476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Žadatel předloží k Žádosti o poskytnutí podpory  odborný posudek (zpracuje místně příslušné RP AOPK ČR)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  <a:p>
            <a:pPr lvl="1" marL="487080" indent="-257040">
              <a:spcBef>
                <a:spcPts val="476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Žádosti budou po kontrole formální úplnosti a přijatelnosti hodnoceny na základě výběrových kritérií (podpořeny mohou být Žádosti, které v rámci hodnocení získaly 50 a více bodů.)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  <a:p>
            <a:pPr marL="241200" indent="-241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Změny projektu 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487080" indent="-257040">
              <a:spcBef>
                <a:spcPts val="476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Příjemce podpory je povinen oznámit Fondu jakékoliv změny (identifikačních a kontaktních údajů, parametrů projektu, podmínek realizace projektu, skutečností a podmínek obsažených ve Smlouvě aj.) a to od předložení žádosti do uplynutí doby udržitelnosti. 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  <a:p>
            <a:pPr lvl="1" marL="487080" indent="-257040">
              <a:spcBef>
                <a:spcPts val="476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Fond je povinen posoudit avizované změny a jejich soulad s podmínkami Programu a změnu dle posouzení buď odsouhlasí, nebo zamítne. Změna podmínek podléhá vždy souhlasu Fondu a může opravňovat Fond k odstoupení od Smlouvy či k uplatnění smluvních sankcí. 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DA2F-36C7-4C44-85EE-2F8CCB0E909E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0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Zlepšení funkčního stavu zeleně ve městech a obcích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8360" y="134136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9040" indent="-41904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Dokumenty předkládané k Žádosti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2" marL="662760" indent="-420480">
              <a:spcBef>
                <a:spcPts val="476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Formulář Žádosti o poskytnutí podpory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  <a:p>
            <a:pPr lvl="2" marL="662760" indent="-420480">
              <a:spcBef>
                <a:spcPts val="476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Aktuální výpis z katastru nemovitostí a snímek katastrální mapy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  <a:p>
            <a:pPr lvl="2" marL="662760" indent="-420480">
              <a:spcBef>
                <a:spcPts val="476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Povolení ke kácení dřevin dle § 8 zákona č. 114/1992 Sb. o ochraně přírody a krajiny, pokud je součástí projektu kácení dřevin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  <a:p>
            <a:pPr lvl="2" marL="662760" indent="-420480">
              <a:spcBef>
                <a:spcPts val="476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Odborný posudek, který zpracuje AOPK ČR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  <a:p>
            <a:pPr lvl="2" marL="662760" indent="-420480">
              <a:spcBef>
                <a:spcPts val="476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Projektová dokumentace nebo prováděcí dokumentace včetně položkového rozpočtu – projektová dokumentace se předkládá v konečném stupni přípravy pro daný typ projektu, který umožní posouzení opatření a posouzení možnosti poskytnutí podpory na jeho realizaci, průběžnou a závěrečnou kontrolu z věcného, ekonomického a ekologického hlediska. Součástí projektové dokumentace je oceněný položkový výkaz výměr (ve struktuře katalogu cen stavebních prací s uvedením ceníkových čísel jednotlivých položek) a mapové podklady vhodného měřítka a druhu umožňující identifikaci rozsahu opatření.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6920" indent="-420480">
              <a:spcBef>
                <a:spcPts val="476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BB47-FE69-45B3-9253-A5A157D141B1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13:11:54Z</dcterms:created>
  <dc:creator>mpecnova</dc:creator>
  <dc:description/>
  <dc:language>en-US</dc:language>
  <cp:lastModifiedBy>Slezak Michal</cp:lastModifiedBy>
  <dcterms:modified xsi:type="dcterms:W3CDTF">2016-11-10T13:17:39Z</dcterms:modified>
  <cp:revision>179</cp:revision>
  <dc:subject/>
  <dc:title>Snímek 1</dc:title>
</cp:coreProperties>
</file>