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724-D5AE-4385-9192-12CEA16E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00C-B85B-4E89-B0A8-570D746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C3C-CF29-429C-BA97-E449049D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5F9-216D-4D11-9D09-200A11B3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A750-812B-4B55-AB50-AD776CAF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44B-AF74-41F4-B18C-B094A5B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B002-E409-4C04-880D-2894E9C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5585-2A34-4466-82F1-AC425EC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2AFD-3B1D-4D55-B0C1-CB22142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B202-75BC-4ABD-8251-6DC8F0E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8118-1FE6-4C63-BC26-4E9C30D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8D6-F664-4007-822A-5D3F35F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805C-07E4-485E-937E-5B826E9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2CB1-6874-48EA-8FA1-26081A7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EC6B-68E7-4E5B-971C-CF9969C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6B02-0230-4AB9-99F1-57FF4EE6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8079-A39B-4D78-98A9-19E071B7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236-7442-4521-9141-59B6420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CC7-E6D0-46BD-9B75-C4C43D0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1D4-26C0-4528-AA09-26194240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973-C364-43F0-928A-CA142182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EBB-1252-4D68-A328-45621F5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0B4-3345-4861-BE89-A9E3557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69C-ABFB-45E4-8950-BB3293B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E41-BAAA-404E-B568-113F517ECA25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82E-AEC9-4B4A-BAAF-9B1FB589D898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Chytré obc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Výzva č. 12/2016</a:t>
            </a:r>
            <a:br>
              <a:rPr sz="3600"/>
            </a:br>
            <a:r>
              <a:rPr b="1" lang="cs-CZ" sz="2500" spc="-1" strike="noStrike">
                <a:solidFill>
                  <a:srgbClr val="3f9c35"/>
                </a:solidFill>
                <a:latin typeface="Segoe"/>
              </a:rPr>
              <a:t>Likvidace nepotřebných vrtů</a:t>
            </a:r>
            <a:endParaRPr b="1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DB6E-8E77-45C2-9ADD-D0F2812A81C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457-829F-4A8C-BC28-E226DE6F445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Likvidace nepotřebných hydrogeologických vrtů, které představují riziko ohrožení životního prostředí, především jakosti či množství podzemních vod nebo ohrožení zdraví či života obyvate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Státní příspěvkové organizace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Obce, dobrovolné svazky obcí a kraje, a to i na vrty jejichž původce není znám nebo neexistuj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EB0-6722-4921-9C95-257EE7E551C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Termíny Výzv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ahájení příjmu Žádostí 1. 11. 201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Ukončení příjmu Žádostí 28. 04. 2019 nebo do vyčerpání alok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Segoe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Max. 90 % z celkových způsobilých výdajů. Dotace může být poskytnuta maximálně do výše alokace této Výzvy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A05-7D14-4BAB-BCF9-65F8E5200EA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9920" indent="-2599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66600" indent="-44316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ová příprava, max. 10 % u projektů se ZV do 1 mil. Kč, 5 % u zbývajících projektů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66600" indent="-44316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lastní likvidace vrtu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Geologická činnost související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Technické práce bezprostředně související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ásyp vrtu inertním materiálem v daném hloubkovém interval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Betonáž úsťového mos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bkopání vrtu v potřebném hloubkovém intervalu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ásyp výkopu, úklid okolí vrtu, likvidace odpad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6280" indent="-221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yvolané investice v přímo souvislosti s projek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C872-6C78-49D5-805D-71CA810CEC7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soutěžní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Žádosti budou administrovány průběž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dpořeny budou projekty, které splní požadavky Směrnice, Programem a Výzvou, a to do výše disponibilní alokac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50C-B2AB-4241-B14F-D5ED82DBEA2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Formulář Žádosti o poskytnutí podp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prokazující vlastnictví či správu předmětu likvidace (vrtu) nebo doložení, že vlastník, či původce vrtu není znám nebo neexistuj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Aktuální výpis z katastru nemovitostí týkající se pozemku, na němž se nachází předmět podp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ísemnou dohodu o přístupu na pozemek a o provádění prací v souvislosti s likvidací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405080" indent="-457200"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dborný posude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CAC-EAED-4AE9-A3DA-35402427C5D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Projekt geologických prac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dokumentace k zadávacímu řízení vč. smlouvy o dí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Kopie smlouvy o zřízení běžného úč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68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egoe"/>
              </a:rPr>
              <a:t>Doklad o jmenování či volbě statutárního zástupce žadatele a o způsobu jednání žadate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E70-65C9-45A5-A8C6-3845CEE9E27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0" indent="-2628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K Žádosti o uvolnění finančních prostředků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Žádosti o uvolnění finančních prostředk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Přehled čerpán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Kopie faktur a ostatních účetních doklad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tokol o likvidaci vr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Kopie bankovních výpisů prokazující uhrazení faktur a účetní doklad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Protokol o předání pozemku majiteli/uživatel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2800" indent="-26280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Dokumenty předkládané k ZVA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Formulář ZV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Závěrečná zpráva o projek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668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ego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egoe"/>
              </a:rPr>
              <a:t>a další dokumenty definované ve Smlouv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6702-1EFD-4092-B74D-441D1F5FDC3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2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Likvidace nepotřebných vrtů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4520" indent="-254520">
              <a:lnSpc>
                <a:spcPct val="100000"/>
              </a:lnSpc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egoe"/>
              </a:rPr>
              <a:t>To nejdůležitější z Podmínek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Příjemce podpory odpovídá za informování veřejnosti o tom, že projekt byl realizován za finanční spoluúčasti Fondu (publicita není způsobilým výdajem)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Podpořeny budou vrty, které byly vybudována za účelem průzkumu, jímání či monitorování podzemní vody, nejsou nyní z hlediska svého původního účelu již potřebné ani jinak využitelné a představují riziko pro životní prostředí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Jeden projekt může řešit i likvidaci více vrtů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Segoe"/>
              </a:rPr>
              <a:t>Kontrola provedení opatření 5 let od uzavření Smlouvy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E8A-9E4F-4ED7-9B6E-FFA9E5348A5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Zavada Vaclav</cp:lastModifiedBy>
  <dcterms:modified xsi:type="dcterms:W3CDTF">2016-11-11T09:09:42Z</dcterms:modified>
  <cp:revision>138</cp:revision>
  <dc:subject/>
  <dc:title>Snímek 1</dc:title>
</cp:coreProperties>
</file>