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923-487F-4D34-88B6-CC0AAF55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9B5-97AC-4AD4-BF1F-DA922847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6EA-B6AA-4C96-9C27-AF51BDFA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6D0-7E9A-4B7C-937E-C16BE702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230F-70BF-4D54-AC0D-FFCB0E96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39E5-C4C8-4E48-A1C9-F34CC0D7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546C-432D-4398-9B08-CB88B008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2F2F-A353-4C10-AFF5-C696CC7C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7B8C-2E01-4092-9578-7D76C30C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D57C-2CAE-48CA-A371-0DD13D89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FCE6-FFED-4FE5-BEA7-7F8CC9E7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053-ECB2-4F8C-B44A-64136199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8DD2-7613-45E5-B99C-880240B8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D130-3A2F-456B-A244-B08B6172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E409-5218-47B3-95B8-84313DDE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F579-C5B9-431B-A114-E3008699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5306-E3EE-4042-86A3-A242E085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4FA-6580-4524-A20C-B07B011A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E7E-647A-457E-A0D3-7A25E63E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3182-9F20-4C8D-85D3-5A17D711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B48-D94F-4766-9BF4-7FBF79AE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0F5-DD18-451C-AF45-1E479B1E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3F1-7D91-4FBF-BEA1-8638ED1D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8D5F-0F4A-4E87-A2EE-8C422BF8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6D05-006C-440B-8B8A-6F78521524D2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SFZP_H_RGB_NEW"/>
          <p:cNvPicPr/>
          <p:nvPr/>
        </p:nvPicPr>
        <p:blipFill>
          <a:blip r:embed="rId2"/>
          <a:stretch/>
        </p:blipFill>
        <p:spPr>
          <a:xfrm>
            <a:off x="468360" y="1538280"/>
            <a:ext cx="374328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Obrázek 11" descr="Mozaika_prezentace_V.jpg"/>
          <p:cNvPicPr/>
          <p:nvPr/>
        </p:nvPicPr>
        <p:blipFill>
          <a:blip r:embed="rId3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405E-A45E-431E-9AE2-2FA1C9335481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9440" y="157320"/>
            <a:ext cx="73771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 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3068280"/>
            <a:ext cx="73915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f9c35"/>
                </a:solidFill>
                <a:latin typeface="Arial Unicode MS"/>
              </a:rPr>
              <a:t>Domovní čistírny odpadních vod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68360" y="5776920"/>
            <a:ext cx="7056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Ing. Michal Slez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Ředitel odboru realizace Národních program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8400" indent="-4284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kumenty předkládané k Žádosti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429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Formulář Žádosti o poskytnutí podpory;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429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Soupis parcel dotčených realizací projektu;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429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Výpis z katastru nemovitostí z internetové aplikace (nazhlizenidokn.cuzk.cz);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429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Souhlas vlastníků nemovitostí, dotčených realizací projektu, včetně přesné identifikace nemovitosti, kde bude umístěn předmět podpory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429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Odborný posudek </a:t>
            </a:r>
            <a:r>
              <a:rPr b="1" lang="cs-CZ" sz="1900" spc="-1" strike="noStrike">
                <a:solidFill>
                  <a:srgbClr val="000000"/>
                </a:solidFill>
                <a:latin typeface="Arial Unicode MS"/>
              </a:rPr>
              <a:t>včetně projektové dokumentace </a:t>
            </a: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a položkového rozpočtu dle požadované struktury, zpracovaný osobou s osvědčením o autorizaci podle zákona č. 360/1992 Sb., o výkonu povolání autorizovaných architektů a o výkonu autorizovaných inženýrů a techniků činných ve výstavbě, ve znění pozdějších předpisů, pro obor: „stavby vodního hospodářství a krajinného inženýrství“, případně pro obor „vodohospodářské stavby“. 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42948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2E84-F27C-4EA0-85E3-6D65C560402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1970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5800" indent="-2358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kumenty předkládané ke Smlouvě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6120" indent="-25128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Kopie povolení (případně doklad o projednání) příslušného vodoprávního úřadu k vypouštění odpadních vod do vod povrchových nebo podzemních pro potřeby jednotlivých občanů (domácností) a povolení k vypouštění odpadních vod k domovní čistírně odpadních vod potřebné k takovému nakládání dle § 8 odst. 1 písm. c) a § 15 vodního zákona (č. 254/2001 Sb.); musí být opatřeno doložkou nabytí právní moci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6120" indent="-25128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Kopie provozního řádu DČOV (pokud nebyl předložen jako příloha k ohlášení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6120" indent="-25128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Kopie dokumentace k zadávacímu řízení vč. platné smlouvy s dodavatelem stavby vč. položkového rozpočtu a/nebo faktury za dodávku a realizaci DČOV a souvisejících objektů, včetně činnosti pracovníka dohledu)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6120" indent="-25128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 případě vypouštění odpadních vod do vod povrchových kopie dokladu o skutečnosti, že použitá DČOV je výrobek označený CE podle zvláštního právního předpisu (§ 11 a 13 zákona č. 22/1997 Sb., o technických požadavcích na výrobky a o změně s doplnění některých zákonů, ve znění pozdějších předpisů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192B-ECDB-4094-B079-E6D2174FD055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Diskuz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000000"/>
                </a:solidFill>
                <a:latin typeface="Arial Unicode MS"/>
              </a:rPr>
              <a:t>Prostor pro vaše dotazy. </a:t>
            </a:r>
            <a:endParaRPr b="1" lang="en-US" sz="3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D50D-3507-474B-BC4B-CC84487FAAC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3047-8E72-4020-B750-4C21B9A9564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ěkuji za pozornost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692360" y="4071960"/>
            <a:ext cx="705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chal Slezá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Ředitel odboru realizace Národních progra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92360" y="4935600"/>
            <a:ext cx="60944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eské republiky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aplanova 1931/1, 148 00 Praha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tel.: +420 267 994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jmeno.prijmeni@sfzp.cz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sfzp.cz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03244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30" name="Obrázek 7" descr="Mozaika_prezentace_V.jpg"/>
          <p:cNvPicPr/>
          <p:nvPr/>
        </p:nvPicPr>
        <p:blipFill>
          <a:blip r:embed="rId2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4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1341360"/>
            <a:ext cx="82152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3280" indent="-23328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Cíle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7840" indent="-248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revence či omezení znečištění povrchových a podzemních vod z komunálních zdrojů prostřednictvím realizace soustav DČOV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3280" indent="-23328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dporované aktivit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7840" indent="-2484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ýzva je zaměřena na podporu realizace soustav individuálních čistíren odpadních vod v podobě DČOV do kapacity 50 EO pro budovy využívané k </a:t>
            </a: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trvalému rodinnému bydlení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 (zejména rodinné a bytové domy) a budovy ve vlastnictví dané obce, které nejsou užívány za účelem dosahování zisku, v oblastech, kde není z </a:t>
            </a: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technického či ekonomického hlediska možné připojit nemovitosti ke stokové síti zakončené ČOV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7840" indent="-2484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 rámci této Výzvy jsou podporována opatření zaměřená na pořízení soustavy DČOV, které odpovídají požadavkům dle Přílohy č. 1 tab. 1c nařízení vlády č. 401/2015 Sb. (kategorie III výrobku označovaného CE) v případě vypouštění odpadních vod do vod povrchových, případně požadavkům dle nařízení vlády č. 57/2016 Sb. v případě vypouštění odpadních vod do vod podzemních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5290-FFBE-49D5-A8A9-39144556D9D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5280" y="1413000"/>
            <a:ext cx="82152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6600" indent="-2466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Oprávnění příjemci podpor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Obce, dobrovolné svazky obcí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Obchodní společnosti vlastněné z více než 50 % majetku obcemi a městy nebo jinými veřejnoprávními subjekty;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Spolky dle § 54 zákona č. 128/2000 Sb., o obcích (obecní zřízení), v platném znění, které nesmí být založeny za účelem podnikání, a jejichž hlavní činnosti jsou v souladu s podporovanými aktivitami Výzvy (např.: provozování vodovodů a kanalizací, čištění a odkanalizování odpadních vod, apod.).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46600" indent="-2466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Termíny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Zahájení příjmu žádostí 1. 11. 2016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Ukončení příjmu Žádostí 30. 11. 2017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46600" indent="-2466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Celková alokace: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00 mil Kč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A433-96A7-4D6C-AF94-6001C1D23F7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280" y="1413000"/>
            <a:ext cx="82152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Maximální výše podpory na jednu DČOV činí: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kapacita DČOV 1 – 5 EO: 100 tis. Kč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kapacita DČOV 6 – 15 EO: 170 tis. Kč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kapacita DČOV 16 - 50 EO: 240 tis. Kč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Maximální výše podpory na jeden projekt činí </a:t>
            </a: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80 %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   z celkových způsobilých výdajů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Projekty musí být realizovány do 31. 12. 2020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5298-9E1A-463B-8AA4-D3AE8C495D24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3720" indent="-24372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působilé výdaj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Náklady na pořízení zařízení DČOV zahrnující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Nákup zařízení DČOV - v rámci této Výzvy jsou podporována opatření zaměřená na pořízení soustavy DČOV, které odpovídají požadavkům dle Přílohy č. 1 tab. 1c nařízení vlády č. 401/2015 Sb. (kategorie III výrobku označovaného CE) v případě vypouštění odpadních vod do vod povrchových, případně požadavkům dle nařízení vlády č. 57/2016 Sb. v případě vypouštění odpadních vod do vod podzemních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Instalaci a zprovoznění zařízení, zahrnující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Realizace souvisejících stavebních prací a dodávek nezbytných pro instalaci a zprovoznění DČOV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Technologie pro nepřetržitý monitoring provozu všech DČOV provozovatelem, pro hlášení a evidenci poruch či závad způsobených neoprávněnou manipulací uživatele, včetně napojení všech realizovaných DČOV na tento systém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Proškolení obsluhy zařízení DČOV i systému provozovatele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123D-9CF3-4BE9-BB7B-3D56DC0DBFBA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4520" indent="-25452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působilé výdaj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Náklady na projektovou přípravu (maximálně však do 10 % z celkových způsobilých výdajů), např.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71440" indent="-217080">
              <a:spcBef>
                <a:spcPts val="400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Projektová dokumentace;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71440" indent="-217080">
              <a:spcBef>
                <a:spcPts val="400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Zadávací dokumentace;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71440" indent="-217080">
              <a:spcBef>
                <a:spcPts val="400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Odborný posudek pro SFŽP;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71440" indent="-217080">
              <a:spcBef>
                <a:spcPts val="400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Odborný posudek ve smyslu § 38 odst. 7 zákona č. 254/2001 Sb. v případě vypouštění odpadních vod do vod podzemních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spcBef>
                <a:spcPts val="11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Náklady na zajištění servisu, pravidelné údržby a servisního monitoringu pro zajištění udržitelnosti projektu (po dobu 10 let od ukončení realizace projektu) příjemcem podpory budou-li součástí pořizovací ceny DČOV. Nebudou-li tyto výdaje zahrnuty do ceny za pořízení DČOV, jejich úhradu zajistí žadatel z vlastních prostředků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spcBef>
                <a:spcPts val="11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Publicitu projektu dle čl. 13.5 této Výzvy, maximálně však 5 tis. Kč (bez DPH)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5253-B62B-463C-BE96-0D102CC84D94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3720" indent="-24372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Podmínky pro poskytnutí podpor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Příjemce podpory je povinen zajistit </a:t>
            </a: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řádný a odborný provoz všech podpořených DČOV </a:t>
            </a: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v souladu s jejich platným provozním řádem. Nedílnou součástí provozu je </a:t>
            </a: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zajištění vzdáleného monitoringu</a:t>
            </a: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 všech podpořených DČOV, který bude v reálném čase hlásit a evidovat případné poruchy či závady, včetně neoprávněné manipulace, a to minimálně po celou dobu udržitelnosti definovanou dále v této Výzvě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0960" indent="-25992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Příjemce podpory uzavře s vlastníkem objektu, pro který je realizován předmět podpory, smluvní vztah (konkrétní forma smluvního vztahu podléhá rozhodnutí příjemce podpory) vymezující práva a povinnosti související s realizací a provozem předmětu podpory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1390-CC52-491B-B85D-B41703CE528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0400" indent="-23040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Podmínky pro poskytnutí podpor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Navržená soustava DČOV musí řešit napojení minimálně </a:t>
            </a:r>
            <a:r>
              <a:rPr b="1" lang="cs-CZ" sz="1900" spc="-1" strike="noStrike">
                <a:solidFill>
                  <a:srgbClr val="000000"/>
                </a:solidFill>
                <a:latin typeface="Arial Unicode MS"/>
              </a:rPr>
              <a:t>30 % z celkového počtu EO v rámci řešeného území</a:t>
            </a: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. Základem pro určení splnění této podmínky se rozumí celkový počet EO domech užívaných pro </a:t>
            </a:r>
            <a:r>
              <a:rPr b="1" lang="cs-CZ" sz="1900" spc="-1" strike="noStrike">
                <a:solidFill>
                  <a:srgbClr val="000000"/>
                </a:solidFill>
                <a:latin typeface="Arial Unicode MS"/>
              </a:rPr>
              <a:t>trvalé rodinné bydlení </a:t>
            </a: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(tj. zejména v rodinných a bytových domech), které nejsou připojeny ke stokové síti zakončené ČOV a nemají instalován systém individuálního čištění odpadních vod. Volba řešeného území, včetně určení celkového počtu EO, musí být zdůvodněna v odborném posudku.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Příjemce podpory je povinen zajistit </a:t>
            </a:r>
            <a:r>
              <a:rPr b="1" lang="cs-CZ" sz="1900" spc="-1" strike="noStrike">
                <a:solidFill>
                  <a:srgbClr val="000000"/>
                </a:solidFill>
                <a:latin typeface="Arial Unicode MS"/>
              </a:rPr>
              <a:t>řádné nevratné a bezpečné odpojení původních jímek či septiků</a:t>
            </a: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 u nemovitostí, jež budou napojeny na novou DČOV.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9560" indent="-24552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Řešené území se nachází v oblasti, kde není z technického či ekonomického hlediska výhledová možnost připojení ke stokové síti zakončené ČOV (dle strategických dokumentů: PRVKÚK, územní plán obce). Pro účely této výzvy je za </a:t>
            </a:r>
            <a:r>
              <a:rPr b="1" lang="cs-CZ" sz="1900" spc="-1" strike="noStrike">
                <a:solidFill>
                  <a:srgbClr val="000000"/>
                </a:solidFill>
                <a:latin typeface="Arial Unicode MS"/>
              </a:rPr>
              <a:t>řešené území považováno území celé obce či prostorově oddělené části obce</a:t>
            </a: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463A-80A7-4677-AAA4-60BF2AC4010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1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Domovní čistírny odpadních vod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1268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2480" indent="-22248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Administrac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49280" indent="-23724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ýzva je vyhlášena jako jednokolová. Při doručení Žádosti o poskytnutí podpory (dále jen “Žádost“) je rozhodující datum doručení na Fond, nikoliv datum předání poštovní přepravě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49280" indent="-23724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Žádosti budou podpořeny maximálně do výše disponibilní alokace Výzvy. V případě překročení alokace bude o podpoře Žádosti rozhodovat datum přijetí na Fond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22480" indent="-22248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měny projektu 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49280" indent="-23724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Příjemce podpory je povinen oznámit Fondu jakékoliv změny (identifikačních a kontaktních údajů, parametrů projektu, podmínek realizace projektu, skutečností a podmínek obsažených ve Smlouvě aj.) a to od předložení žádosti do uplynutí doby udržitelnosti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49280" indent="-23724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 případě, že dojde ke změně vlastnického práva k předmětu podpory po vydání Rozhodnutí a Smlouvy (např. z důvodu zániku spolku) až do konce doby udržitelnosti, je příjemce podpory povinen právně relevantním způsobem zavázat nového vlastníka k plnění podmínek stanovených v Rozhodnutí a Smlouvě. V případě, že tak neučiní, je povinen bezodkladně vrátit Fondu poskytnutou podporu v plné výši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EEF4-5F93-4A73-8435-BF7D2651163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11:54Z</dcterms:created>
  <dc:creator>mpecnova</dc:creator>
  <dc:description/>
  <dc:language>en-US</dc:language>
  <cp:lastModifiedBy>Slezak Michal</cp:lastModifiedBy>
  <dcterms:modified xsi:type="dcterms:W3CDTF">2016-11-10T13:16:45Z</dcterms:modified>
  <cp:revision>207</cp:revision>
  <dc:subject/>
  <dc:title>Snímek 1</dc:title>
</cp:coreProperties>
</file>