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565-8FFA-417C-A127-6EC88925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361-F55B-404A-8906-5AEE1A5E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E2B-2C76-442D-A692-86430D46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BB0D-497B-4AC8-8CD2-108D7C3A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1C39-EFAF-46E3-A012-7064A872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D2F3-582E-480B-B747-B7530FDD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27C1-EFAC-4D70-A626-1DFDD75F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577E-4129-4E90-8CB0-8F31ECAB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EADD-49ED-4112-ABE3-DF30278A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E1B3-305E-4199-8452-2C1233ED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BD45-5B46-4551-880B-C5CC621D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545-BA88-4C66-AFBF-9E2CFCA0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4EFF-F137-4363-865B-390B9D0B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BE93-9B30-40B1-AC1F-879F7E80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657B-59A1-47CA-9868-C6184650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5626-E416-420A-9456-6ABBCB06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156B-BF8A-4E1D-A366-B11B8F68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EA8-EC0B-4FED-9C15-71061D97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009C-4BA2-43ED-AABF-23D7C360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362-22F1-4DAD-A199-C93CF886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102-EF3C-4FA6-AA08-0A8E8E5D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02DD-1659-408D-924F-81A61757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E08-9C36-4CF2-9F00-63BDE06E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9BB-E3C1-4875-BB58-7F534511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9B8C-B2B4-4FDB-9DD6-C670FB4DC9F3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SFZP_H_RGB_NEW"/>
          <p:cNvPicPr/>
          <p:nvPr/>
        </p:nvPicPr>
        <p:blipFill>
          <a:blip r:embed="rId2"/>
          <a:stretch/>
        </p:blipFill>
        <p:spPr>
          <a:xfrm>
            <a:off x="468360" y="1538280"/>
            <a:ext cx="3743280" cy="1027080"/>
          </a:xfrm>
          <a:prstGeom prst="rect">
            <a:avLst/>
          </a:prstGeom>
          <a:ln w="0">
            <a:noFill/>
          </a:ln>
        </p:spPr>
      </p:pic>
      <p:pic>
        <p:nvPicPr>
          <p:cNvPr id="46" name="Obrázek 11" descr="Mozaika_prezentace_V.jpg"/>
          <p:cNvPicPr/>
          <p:nvPr/>
        </p:nvPicPr>
        <p:blipFill>
          <a:blip r:embed="rId3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949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6F8D-3CBC-4796-91EF-4781340FAB4A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9440" y="157320"/>
            <a:ext cx="737712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 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3068280"/>
            <a:ext cx="73915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f9c35"/>
                </a:solidFill>
                <a:latin typeface="Arial Unicode MS"/>
              </a:rPr>
              <a:t>Podpora alternativních způsobů dopravy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68360" y="5776920"/>
            <a:ext cx="7056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Ing. Michal Slez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Ředitel odboru realizace Národních program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E2D7-E07B-4E7D-B7C7-9EC0744DBD01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Unicode MS"/>
              </a:rPr>
              <a:t>NPŽP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ěkuji za pozornost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071960"/>
            <a:ext cx="705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ichal Slezá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Ředitel odboru realizace Národních program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692360" y="4935600"/>
            <a:ext cx="60944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fond životního prostředí České republiky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aplanova 1931/1, 148 00 Praha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orespondenční a kontaktní adresa: Olbrachtova 2006/9, 140 00  Praha 4,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tel.: +420 267 994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jmeno.prijmeni@sfzp.cz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sfzp.cz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SFZP_H_RGB_NEW"/>
          <p:cNvPicPr/>
          <p:nvPr/>
        </p:nvPicPr>
        <p:blipFill>
          <a:blip r:embed="rId1"/>
          <a:srcRect l="0" t="0" r="71719" b="0"/>
          <a:stretch/>
        </p:blipFill>
        <p:spPr>
          <a:xfrm>
            <a:off x="539640" y="5032440"/>
            <a:ext cx="865440" cy="839880"/>
          </a:xfrm>
          <a:prstGeom prst="rect">
            <a:avLst/>
          </a:prstGeom>
          <a:ln w="0">
            <a:noFill/>
          </a:ln>
        </p:spPr>
      </p:pic>
      <p:pic>
        <p:nvPicPr>
          <p:cNvPr id="123" name="Obrázek 7" descr="Mozaika_prezentace_V.jpg"/>
          <p:cNvPicPr/>
          <p:nvPr/>
        </p:nvPicPr>
        <p:blipFill>
          <a:blip r:embed="rId2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3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odpora alternativních způsobů doprav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600200"/>
            <a:ext cx="82152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5320" indent="-26532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Cíl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7200" indent="-28296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snížení negativních vlivů dopravy na zdraví obyvatel a životní prostředí, tj. zejména snížení emisí z dopravy a snížení hlukové zátěže, a to prostřednictvím podpory využívání vozidel s alternativním pohonem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65320" indent="-26532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Termíny Výzv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7200" indent="-28296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Zahájení příjmu žádostí 10. 11. 2016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7200" indent="-282960">
              <a:spcBef>
                <a:spcPts val="524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Ukončení příjmu Žádostí 31. 3. 2017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65320" indent="-26532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Celková alokace: 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00 mil Kč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7200" indent="-28296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80 mil. Kč je vyhrazeno na vozidla s pohonem plug-in hybrid a elektromobil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7200" indent="-28296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20 mil. Kč je vyhrazeno na vozidla s pohonem CNG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AD86-8997-4DBC-8343-72447C5B629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3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Podpora alternativních způsobů dopravy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Podporované aktivit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ředmětem podpory je nákup nových nebo nově přestavěných vozidel s alternativním pohonem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425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 Unicode MS"/>
              </a:rPr>
              <a:t>Automobilem CNG se rozumí automobil, který má alespoň jednu pohonnou jednotku na zemní plyn CNG (platí tedy pro kombinaci s ostatními palivy).</a:t>
            </a:r>
            <a:endParaRPr b="0" lang="en-US" sz="17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425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 Unicode MS"/>
              </a:rPr>
              <a:t>Plug-in hybrid (PHEV) se rozumí vozidlo s více pohonnými jednotkami, které disponuje elektrickým pohonem a lze jej dobíjet z externího zdroje elektrické energie.</a:t>
            </a:r>
            <a:endParaRPr b="0" lang="en-US" sz="17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425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 Unicode MS"/>
              </a:rPr>
              <a:t>Elektromobilem se rozumí vozidlo výhradně s elektro pohonem, a to:</a:t>
            </a:r>
            <a:endParaRPr b="0" lang="en-US" sz="17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374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 Unicode MS"/>
              </a:rPr>
              <a:t>BEV – vozidlo s bateriovým pohonem,</a:t>
            </a:r>
            <a:endParaRPr b="0" lang="en-US" sz="15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374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 Unicode MS"/>
              </a:rPr>
              <a:t>EREV – výhradně elektrické vozidlo s prodlouženým dojezdem (za pomoci částečného dobíjení akumulátorů jednotkou se spalovacím motorem).</a:t>
            </a:r>
            <a:endParaRPr b="0" lang="en-US" sz="15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45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D8B5-6321-4EAC-B44B-E31791C18D0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3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Podpora alternativních způsobů dopravy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1599840"/>
            <a:ext cx="82152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Forma a výše podpory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45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FD6D-AFDB-4917-B44F-CAC2BBAD450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2060640"/>
          <a:ext cx="8215200" cy="3038400"/>
        </p:xfrm>
        <a:graphic>
          <a:graphicData uri="http://schemas.openxmlformats.org/drawingml/2006/table">
            <a:tbl>
              <a:tblPr/>
              <a:tblGrid>
                <a:gridCol w="3849480"/>
                <a:gridCol w="1165320"/>
                <a:gridCol w="1513080"/>
                <a:gridCol w="1687320"/>
              </a:tblGrid>
              <a:tr h="338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yp vozidla/Podpo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lektromob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ug-in hyb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66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1 (osobní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2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1 (nákladní menší do 2,5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2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1 (nákladní menší od 2,5-3,5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2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66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7E (malá užitková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5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4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1E, L2E (motorky do 45 km/h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62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3E, L4E, L5E, L6E (nad 45 km/h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4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2, M3 do 7,5t (minibu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0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2 do 12t (nákladní střední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 tis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01" name="TextovéPole 4"/>
          <p:cNvSpPr/>
          <p:nvPr/>
        </p:nvSpPr>
        <p:spPr>
          <a:xfrm>
            <a:off x="468360" y="5445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onus za ekologicky zlikvidované staré vozid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káže-li žadatel ekologickou likvidaci starého vozidla emisní třídy EURO 3 a nižší, má nárok na fixní bonus 10 tis. Kč za každé zlikvidované vozidlo, které bude nahrazeno novým vozidlem s alternativním pohon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3/2016</a:t>
            </a: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Segoe"/>
              </a:rPr>
              <a:t>Podpora alternativních způsobů doprav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1600200"/>
            <a:ext cx="82152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Oprávnění příjemci podpory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územní samosprávné celky (obce a kraje) a městské části hlavního města Prahy,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svazky obcí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příspěvkové organizace územních samosprávných celků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obecně prospěšné společnosti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spolky a pobočné spolky založené obcí či krajem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akciové společnosti vlastněné z více než 50 procenty obcí či krajem,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5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společnosti s ručením omezeným vlastněné z více než 50 procenty obcí či krajem.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2669-E18D-4813-A16F-29238CBAD715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3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Podpora alternativních způsobů dopravy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4130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1200" indent="-241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Administrace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87080" indent="-25704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Výzva je vyhlášena jako jednokolová nesoutěžní. Podpořeny mohou být pouze úplné a formálně správné Žádosti, které splní podmínky stanovené Směrnicí MŽP č. 4/2015, Programem a touto Výzvou, a to maximálně do výše disponibilní alokace Výzvy (rozhoduje datum přijetí žádosti na Fond).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marL="241200" indent="-241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měny projektu 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87080" indent="-25704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Příjemce podpory je povinen oznámit Fondu jakékoliv změny (identifikačních a kontaktních údajů, parametrů projektu, podmínek realizace projektu, skutečností a podmínek obsažených ve Smlouvě aj.) a to od předložení žádosti do uplynutí doby udržitelnosti. 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1" marL="487080" indent="-257040">
              <a:spcBef>
                <a:spcPts val="476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 Unicode MS"/>
              </a:rPr>
              <a:t>Fond je povinen posoudit avizované změny a jejich soulad s podmínkami Programu a změnu dle posouzení buď odsouhlasí, nebo zamítne. Změna podmínek podléhá vždy souhlasu Fondu a může opravňovat Fond k odstoupení od Smlouvy či k uplatnění smluvních sankcí. 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8270-D5BE-40A7-9096-53E9BF13AD12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3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Podpora alternativních způsobů dopravy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okumenty předkládané k Žádosti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720720" indent="-4572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opis realizace projektu, ve kterém žadatel odůvodní potřebnost a hospodárnost provozu a uvede technické specifikace pořizovaných vozidel s alternativním pohonem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720720" indent="-4572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Doložení předpokládané výše investice, tzn. cenová nabídka, případně ceník dokládající cenu vozidla/vozidel, které žadatel zamýšlí v rámci této Výzvy zakoupit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720720" indent="-45720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Dokumenty k veřejné podpoře (jsou-li pro daný případ relevantní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1993-C49F-47E4-BB1B-84D061C02A92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Výzva č. 13/2016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Segoe"/>
              </a:rPr>
              <a:t>Podpora alternativních způsobů dopravy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1341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49120" indent="-24912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okumenty předkládané ke Smlouvě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9960" indent="-42516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Kopie dokumentace k zadávacímu řízení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9960" indent="-42516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Dokumenty k veřejné podpoře (jsou-li pro daný případ relevantní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289080" indent="-28908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okumenty předkládané k žádosti o uvolnění FP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9960" indent="-42516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Kopie faktur a ostatních účetních dokladů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9960" indent="-42516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Kopie bankovních výpisů prokazující uhrazení faktur a účetních dokladů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669960" indent="-425160">
              <a:spcBef>
                <a:spcPts val="499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V případě využití bonusu za ekologickou likvidaci starého vozidla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047960" indent="-42516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Potvrzení o ekologické likvidaci vozidla/vozidel včetně uvedení emisní normy ekologicky zlikvidovaných vozidel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047960" indent="-425160">
              <a:spcBef>
                <a:spcPts val="451"/>
              </a:spcBef>
              <a:buClr>
                <a:srgbClr val="000000"/>
              </a:buClr>
              <a:buFont typeface="JohnSans Text Pro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Relevantní dokument dokládající dobu vlastnictví ekologicky zlikvidovaného vozidla/vozidel (např. kopie kupní smlouvy, výpis z registru silničních vozidel)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75B2-C3D5-4933-8915-D94A50F4862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Diskuz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000000"/>
                </a:solidFill>
                <a:latin typeface="Arial Unicode MS"/>
              </a:rPr>
              <a:t>Prostor pro vaše dotazy. </a:t>
            </a:r>
            <a:endParaRPr b="1" lang="en-US" sz="3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1659-F08C-4187-88A1-8E4F3327F2F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3:11:54Z</dcterms:created>
  <dc:creator>mpecnova</dc:creator>
  <dc:description/>
  <dc:language>en-US</dc:language>
  <cp:lastModifiedBy>Slezak Michal</cp:lastModifiedBy>
  <dcterms:modified xsi:type="dcterms:W3CDTF">2016-11-10T15:03:15Z</dcterms:modified>
  <cp:revision>198</cp:revision>
  <dc:subject/>
  <dc:title>Snímek 1</dc:title>
</cp:coreProperties>
</file>