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50A2-0088-49B2-8174-AB663F1D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68EE-4A0A-460C-9043-985C14BF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5EBE-74D2-4559-9CC4-6463D28A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61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392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7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61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392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2A6F-8C3D-4C2F-A0A8-547F49F5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F3E0-A94A-48B2-82B2-6AD49651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3CA1-45D6-4C09-AE8C-F627036E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CC21-4441-4B29-98C0-7BBFD0B7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C02F-8373-4A4D-823C-2796A9C1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5F51-C0A7-482F-A1E8-ECE61D4A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B93F-0003-49DA-B06B-99F3ADB4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434E-4BFA-4948-ACDC-77E69EE5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33C2-C2C3-4FA7-8760-0B7BD44B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35FD-2E21-45E5-AFFD-8886F509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B21E-7EDB-4309-98FF-1219FAC4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23C4-331E-46C4-A76E-DB836FED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E0A9-9947-4ABA-80C9-CFB25001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061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392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287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061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392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5783-D20D-48A8-AAFA-C122EC0A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59A6-8B2B-4318-8AE3-D107E535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D558-9B32-4521-91E2-84E12459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CEB7-BCAF-44E4-AA32-F0A8932B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1358-DB4D-4714-BF67-7376CA57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484B-2E73-42F2-9DC9-025233C3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42E9-DA5E-4160-94C1-B7BC3F33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F7A8-F22B-483E-9BFF-F8DC662C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7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C1AF-4890-4D86-88F0-FA080854807F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SFZP_H_RGB_NEW"/>
          <p:cNvPicPr/>
          <p:nvPr/>
        </p:nvPicPr>
        <p:blipFill>
          <a:blip r:embed="rId2"/>
          <a:stretch/>
        </p:blipFill>
        <p:spPr>
          <a:xfrm>
            <a:off x="468360" y="1538280"/>
            <a:ext cx="3743280" cy="1027080"/>
          </a:xfrm>
          <a:prstGeom prst="rect">
            <a:avLst/>
          </a:prstGeom>
          <a:ln w="0">
            <a:noFill/>
          </a:ln>
        </p:spPr>
      </p:pic>
      <p:pic>
        <p:nvPicPr>
          <p:cNvPr id="46" name="Obrázek 11" descr="Mozaika_prezentace_V.jpg"/>
          <p:cNvPicPr/>
          <p:nvPr/>
        </p:nvPicPr>
        <p:blipFill>
          <a:blip r:embed="rId3"/>
          <a:stretch/>
        </p:blipFill>
        <p:spPr>
          <a:xfrm>
            <a:off x="7927920" y="0"/>
            <a:ext cx="121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7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949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B0F3-287C-4D7D-A196-53065B83B7C9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9440" y="157320"/>
            <a:ext cx="737712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 Unicode MS"/>
              </a:rPr>
              <a:t>NPŽP 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3068280"/>
            <a:ext cx="73915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3f9c35"/>
                </a:solidFill>
                <a:latin typeface="Arial Unicode MS"/>
              </a:rPr>
              <a:t>Chytré obce</a:t>
            </a:r>
            <a:endParaRPr b="1" lang="en-US" sz="34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3f9c35"/>
                </a:solidFill>
                <a:latin typeface="Segoe"/>
              </a:rPr>
              <a:t>Výzva č. 8/2016</a:t>
            </a:r>
            <a:br>
              <a:rPr sz="2500"/>
            </a:br>
            <a:r>
              <a:rPr b="1" lang="cs-CZ" sz="2500" spc="-1" strike="noStrike">
                <a:solidFill>
                  <a:srgbClr val="3f9c35"/>
                </a:solidFill>
                <a:latin typeface="Segoe"/>
              </a:rPr>
              <a:t>Průzkum, posílení a budování zdrojů pitné vody</a:t>
            </a:r>
            <a:endParaRPr b="1" lang="en-US" sz="25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8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Průzkum, posílení a budování zdrojů pitné vody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Publicita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Týká se projektů nad 1 mil. Kč. V takovém případě jsou žadatelé, resp. příjemci podpory povinni umístit v místě realizace projektu informační tabuli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38A4-9514-4B6C-9E3D-B3AD29725909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8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Průzkum, posílení a budování zdrojů pitné vody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To nejdůležitější z Podmínek Výzv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Pokud je v obci vybudován rozvod pitné vody, je žadatel povinen zajistit napojení nového zdroje vody do tohoto rozvoru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Žadatel nesmí uplatňovat stejné způsobilé výdaje v jiném dotačním programu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Žadatel je povinen zajistit udržitelnost projektu po dobu 5 let od dokončení realizace projektu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C3B3-59A1-47DD-B830-EB0B5481A38D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Diskuz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000000"/>
                </a:solidFill>
                <a:latin typeface="Arial Unicode MS"/>
              </a:rPr>
              <a:t>Prostor pro vaše dotazy. </a:t>
            </a:r>
            <a:endParaRPr b="1" lang="en-US" sz="3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0E96-BAAD-44C2-B308-2E78F2D4575B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6044-96B8-450F-99F2-AFD58482E9FD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 Unicode MS"/>
              </a:rPr>
              <a:t>NPŽP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ěkuji za pozornost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692360" y="4935600"/>
            <a:ext cx="60944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Státní fond životního prostředí České republiky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Kaplanova 1931/1, 148 00 Praha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korespondenční a kontaktní adresa: Olbrachtova 2006/9, 140 00  Praha 4,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tel.: +420 267 994 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jmeno.prijmeni@sfzp.cz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www.sfzp.cz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3f9c35"/>
                </a:solidFill>
                <a:latin typeface="Arial Unicode MS"/>
              </a:rPr>
              <a:t>zelená linka 800 260 500</a:t>
            </a:r>
            <a:r>
              <a:rPr b="0" lang="cs-CZ" sz="1200" spc="-1" strike="noStrike">
                <a:solidFill>
                  <a:srgbClr val="73767d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dotazy@sfzp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SFZP_H_RGB_NEW"/>
          <p:cNvPicPr/>
          <p:nvPr/>
        </p:nvPicPr>
        <p:blipFill>
          <a:blip r:embed="rId1"/>
          <a:srcRect l="0" t="0" r="71719" b="0"/>
          <a:stretch/>
        </p:blipFill>
        <p:spPr>
          <a:xfrm>
            <a:off x="539640" y="5032440"/>
            <a:ext cx="865440" cy="839880"/>
          </a:xfrm>
          <a:prstGeom prst="rect">
            <a:avLst/>
          </a:prstGeom>
          <a:ln w="0">
            <a:noFill/>
          </a:ln>
        </p:spPr>
      </p:pic>
      <p:pic>
        <p:nvPicPr>
          <p:cNvPr id="128" name="Obrázek 7" descr="Mozaika_prezentace_V.jpg"/>
          <p:cNvPicPr/>
          <p:nvPr/>
        </p:nvPicPr>
        <p:blipFill>
          <a:blip r:embed="rId2"/>
          <a:stretch/>
        </p:blipFill>
        <p:spPr>
          <a:xfrm>
            <a:off x="7927920" y="0"/>
            <a:ext cx="121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8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Průzkum, posílení a budování zdrojů pitné vody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2000" indent="-25200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Cíl Výzv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Zlepšení zásobování pitnou vodou v odpovídající kvalitě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Vyhledání nových podzemních zdrojů vody pro zásobování obyvatelstva pitnou vodou v odpovídající kvalitě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Oprávnění příjemci podpor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Obce a Dobrovolné svazky obcí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Příspěvkové organizace územních samosprávných celků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Obchodní společnosti ovládané z více než 50 % veřejným subjektem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>
              <a:lnSpc>
                <a:spcPct val="100000"/>
              </a:lnSpc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Segoe"/>
              </a:rPr>
              <a:t>Termíny Výzvy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Zahájení příjmu Žádostí 11. 7. 2016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Ukončení příjmu Žádostí 30. 6. 2017, nebo do vyčerpání aloka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2CBC-61E6-49E4-B05D-13756BE50538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8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Průzkum, posílení a budování zdrojů pitné vody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00000"/>
              </a:lnSpc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Segoe"/>
              </a:rPr>
              <a:t>Forma a výše podpory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Min. 100 tis. Kč, Max. 3 mil. Kč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Procentní míra odvislá od akutnosti situa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egoe"/>
              </a:rPr>
              <a:t>80 % v případě projektů, které řeší akutní </a:t>
            </a:r>
            <a:r>
              <a:rPr b="1" lang="cs-CZ" sz="1800" spc="-1" strike="noStrike">
                <a:solidFill>
                  <a:srgbClr val="000000"/>
                </a:solidFill>
                <a:latin typeface="Segoe"/>
              </a:rPr>
              <a:t>nedostatek</a:t>
            </a:r>
            <a:r>
              <a:rPr b="0" lang="cs-CZ" sz="1800" spc="-1" strike="noStrike">
                <a:solidFill>
                  <a:srgbClr val="000000"/>
                </a:solidFill>
                <a:latin typeface="Segoe"/>
              </a:rPr>
              <a:t> v zásobování obyvatelstva pitnou vodou v odpovídající kvalitě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egoe"/>
              </a:rPr>
              <a:t>70 % v případě projektů, které řeší </a:t>
            </a:r>
            <a:r>
              <a:rPr b="1" lang="cs-CZ" sz="1800" spc="-1" strike="noStrike">
                <a:solidFill>
                  <a:srgbClr val="000000"/>
                </a:solidFill>
                <a:latin typeface="Segoe"/>
              </a:rPr>
              <a:t>možný nedostatek </a:t>
            </a:r>
            <a:r>
              <a:rPr b="0" lang="cs-CZ" sz="1800" spc="-1" strike="noStrike">
                <a:solidFill>
                  <a:srgbClr val="000000"/>
                </a:solidFill>
                <a:latin typeface="Segoe"/>
              </a:rPr>
              <a:t>v zásobování obyvatelstva pitnou vodou v odpovídající kvalitě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egoe"/>
              </a:rPr>
              <a:t>60 % v případě, že </a:t>
            </a:r>
            <a:r>
              <a:rPr b="1" lang="cs-CZ" sz="1800" spc="-1" strike="noStrike">
                <a:solidFill>
                  <a:srgbClr val="000000"/>
                </a:solidFill>
                <a:latin typeface="Segoe"/>
              </a:rPr>
              <a:t>nehrozí reálné riziko </a:t>
            </a:r>
            <a:r>
              <a:rPr b="0" lang="cs-CZ" sz="1800" spc="-1" strike="noStrike">
                <a:solidFill>
                  <a:srgbClr val="000000"/>
                </a:solidFill>
                <a:latin typeface="Segoe"/>
              </a:rPr>
              <a:t>nedostatku pitné vod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lnSpc>
                <a:spcPct val="100000"/>
              </a:lnSpc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Segoe"/>
              </a:rPr>
              <a:t>Specifická kritéria přijatelnosti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Řešené území (obec) není napojena na kapacitní vodárenskou soustavu nebo pokud je možné a efektivní využít povrchové zdroje vod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lnSpc>
                <a:spcPct val="100000"/>
              </a:lnSpc>
              <a:spcBef>
                <a:spcPts val="45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C7CA-93AD-4F11-A2DB-47DA9396A1DE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8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Průzkum, posílení a budování zdrojů pitné vody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Způsobilé výdaje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Projektová příprava, max. 10 % z realizačních ZV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Zpracování dat a vyhodnocení výsledků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Stavební práce a související služby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Průzkum a analýza lokalit s možným výskytem kvalitní podzemní pitné vod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Vybudování a vystrojení nových podzemních zdrojů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Napojení vybudovaných zdrojů vody na stávající rozvod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Vybudování odběrného místa pitné vody v místech, kde není vybudován rozvod pitné vod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Publicita, max. 100 tis. Kč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A042-D666-456F-BBBB-4DCB2E2637F8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8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Průzkum, posílení a budování zdrojů pitné vody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Způsobilé výdaje v praxi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Podporu je možné poskytnout na vybudování nového či zkapacitnění stávajícího vodojemu, pokud je to nezbytné pro zajištění dodávek pitné vod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Podporu je možné poskytnout na napojení zdroje pitné vody, který nebyl zřízen v rámci projektu, na stávající rozvod pitné vod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Je možno získat podporu na likvidaci průzkumného vrtu zřízeného v rámci projektu, který není využitelný jako zdroj pitné vod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4A07-86EE-4085-9689-05B523C75978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8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Průzkum, posílení a budování zdrojů pitné vody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Administrace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Nesoutěžní Výzv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Žádosti budou administrovány průběžně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Podpořeny budou projekty, které splní požadavky Směrnice, Programu a Výzvy, a to do výše disponibilní alokac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0F54-1876-4D1F-9231-86C9661FE51B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8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Průzkum, posílení a budování zdrojů pitné vody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Dokumenty předkládané k Žádosti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40508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egoe"/>
              </a:rPr>
              <a:t>Formulář Žádosti o poskytnutí podpory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40508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egoe"/>
              </a:rPr>
              <a:t>Podrobný popis projektu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40508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egoe"/>
              </a:rPr>
              <a:t>Doklad o právní osobnosti jednatele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40508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egoe"/>
              </a:rPr>
              <a:t>Aktuální výpis z katastru nemovitostí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40508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egoe"/>
              </a:rPr>
              <a:t>Odborný posudek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40508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egoe"/>
              </a:rPr>
              <a:t>Dokumenty prokazující nedostatek či nevyhovující kvalitu vody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062B-3366-4910-B6F4-D3F695819C95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8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Průzkum, posílení a budování zdrojů pitné vody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Dokumenty předkládané ke Smlouvě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Kopie smlouvy o zřízení či vedení účtu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Kopie dokumentace k zadávacímu řízení vč. smlouvy o díl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Doklad o technickém a autorském dozoru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Stanoviska a rozhodnutí dotčených orgánů státní správy a dalších dotčených orgánů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Aktuální prohlášení o plátcovství DP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Aktualizované dokumenty předložené k Žádosti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D19C-0CAA-485C-9353-785E732B493B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8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Průzkum, posílení a budování zdrojů pitné vody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5320" indent="-26532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Dokumenty předkládané k Žádosti o finanční prostředk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986760" indent="-452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egoe"/>
              </a:rPr>
              <a:t>Formulář Žádosti o uvolnění finančních prostředků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986760" indent="-452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egoe"/>
              </a:rPr>
              <a:t>Formulář Přehled čerpání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986760" indent="-452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egoe"/>
              </a:rPr>
              <a:t>Kopie faktur a ostatních účetních dokladů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986760" indent="-452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egoe"/>
              </a:rPr>
              <a:t>Kopie bankovních výpisů prokazující uhrazení faktur a účetních dokladů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265320" indent="-26532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Dokumenty předkládané k ZVA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986760" indent="-452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egoe"/>
              </a:rPr>
              <a:t>Formulář ZVA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986760" indent="-452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egoe"/>
              </a:rPr>
              <a:t>Protokol o předání místa realizace projektu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986760" indent="-452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Segoe"/>
              </a:rPr>
              <a:t>a další dokumenty definované ve Smlouvě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98676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8676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5320" indent="-265320">
              <a:lnSpc>
                <a:spcPct val="10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A680-77B7-44EA-A879-876776966113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3:11:54Z</dcterms:created>
  <dc:creator>mpecnova</dc:creator>
  <dc:description/>
  <dc:language>en-US</dc:language>
  <cp:lastModifiedBy>Zavada Vaclav</cp:lastModifiedBy>
  <dcterms:modified xsi:type="dcterms:W3CDTF">2016-11-11T08:14:42Z</dcterms:modified>
  <cp:revision>159</cp:revision>
  <dc:subject/>
  <dc:title>Snímek 1</dc:title>
</cp:coreProperties>
</file>