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A61-D96C-4841-A066-0C65D38B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3A6-D737-4CC1-818A-F138C879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5C4-04DC-4133-A246-002B0ABC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1D4-1C16-479B-A156-6AF4E281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6672-F082-49C7-8C72-DF729236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39CB-1FA7-41EC-9F4D-3502EAD6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618A-B7BA-4510-B9FF-3990E11A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A203-09F0-4B76-B319-457BEECC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121D-0FE3-4EA3-AA85-15D5FC51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69EB-F19D-4B35-A4B7-6EF8E171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13C8-4730-4F62-A97E-9AD94DD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6F0-C950-442A-A6F8-E85FDBFC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959B-46E1-4D26-9227-26E27071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CA1D-DE2C-4033-873E-7A249778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1F0D-9CD9-429B-A8E2-E2100E2C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73BA-5D3C-4433-8BDE-85E7592F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FFCF-459B-4B0F-8568-BD2179DD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45E-7CC1-46BE-A4F9-D45FE9C0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8FE-EBD2-405E-9B00-2472EA48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9CF-7A8E-4B6F-B869-6B24115E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191-DFBA-44FA-8CAD-8B7E17B0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896-9B7A-4CF0-AA47-8F52A935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9CA-9962-485A-8EBD-2697ECFA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203-4B75-4EEE-9A15-A8CEF6A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09C2-D8D7-4729-A47A-3C5F56CC7D74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DEFD-0345-4D00-BD85-9D2A7216F831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9440" y="157320"/>
            <a:ext cx="73771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 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f9c35"/>
                </a:solidFill>
                <a:latin typeface="Arial Unicode MS"/>
              </a:rPr>
              <a:t>Zlepšení funkčního stavu zeleně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f9c35"/>
                </a:solidFill>
                <a:latin typeface="Arial Unicode MS"/>
              </a:rPr>
              <a:t>ve městech a obcích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5776920"/>
            <a:ext cx="705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1970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5800" indent="-2358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e Smlouvě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Doklady prokazující dodržení příslušného zákona o veřejných zakázkách v aktuálním znění (na realizaci investice, odborný dozor, projektovou přípravu apod.)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eškeré smlouvy o dílo včetně položkového rozpočtu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Rozhodnutí, závazná stanoviska či vyjádření orgánů státní správy požadovaná pro daný druh opatření příslušnými obecně závaznými právními předpisy a věcně a místně příslušnými orgány státní správy (např. územní rozhodnutí, stavební povolení či vyjádření věcně a místně příslušného orgánu státní správy, souhlas orgánů památkové péče, závazné stanovisko k zásahu do významného krajinného prvku; souhlas k odnětí půdy ze zemědělského půdního fondu podle zákona č. 334/1992 Sb., o ochraně zemědělského půdního fondu, atd.). </a:t>
            </a:r>
            <a:r>
              <a:rPr b="1" lang="cs-CZ" sz="1800" spc="-1" strike="noStrike">
                <a:solidFill>
                  <a:srgbClr val="000000"/>
                </a:solidFill>
                <a:latin typeface="Arial Unicode MS"/>
              </a:rPr>
              <a:t>Rozhodnutí vydaná ve správním řízení musí být opatřeny doložkou právní moc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U akcí, kde je součástí realizovaného opatření zásah do vodního toku, stanovisko správce vodního toku a vyjádření příslušného vodoprávního úřadu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6868-A799-44C9-A017-3633749A5A4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iskuz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 Unicode MS"/>
              </a:rPr>
              <a:t>Prostor pro vaše dotazy. 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70FB-8CFA-405B-A60C-E4C5212CB3A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835F-C7DE-4498-915D-DB5C0265CDF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692360" y="40719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692360" y="4935600"/>
            <a:ext cx="6094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27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60020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íl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podpora zachování a zvyšování podílu zeleně a vodních prvků ve městech a obcích a zvyšování její funkční kvality, jak v rozvojových oblastech sídel, tak v původní zástavbě.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Oprávnění příjemci podpor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Všechny fyzické a právnické osoby, které splní předepsané podmínky Programu a Výzvy, včetně organizačních složek státu.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Termíny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Zahájení příjmu žádostí 3. 10. 2016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Ukončení příjmu Žádostí 28. 2. 2017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elková alokace: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0 mil Kč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6345-F3BE-4238-9FE8-BC06461BF78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2800" indent="-2628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porované aktivit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Zakládání a obnova ploch zeleně včetně doprovodných vodních prvků přírodě blízkého charakteru a realizace opatření k zajištění podmínek pro existenci volně žijících živočichů v sídlech. </a:t>
            </a: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ořízení nového, či rekonstrukce stávajícího mobiliáře;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řeměna nepropustných povrchů na propustné či polopropustné, obnova a budování cest, pěšin a mostků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62800" indent="-2628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Forma a výše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Max.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2 mil. Kč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a jeden projekt v obcích do 500 obyvat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Maxi.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250 tisíc Kč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a jeden projekt v obcích nad 500 obyvatel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rocentní míra podpory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80 %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 z celkových způsobilých výdaj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8520" indent="-223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8520" indent="-223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2800" indent="-262800">
              <a:spcBef>
                <a:spcPts val="45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0035-3106-4680-B517-7DCA7BCAE81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0400" indent="-2304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Kritéria přijatelnosti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obsahuje dostatečné zhodnocení stávajícího stavu území (biodiverzity a ekologické stability)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obsahuje dostatečné zhodnocení vlivu průběhu realizace opatření na biodiverzitu a funkce ekosystémů a v případě existence negativních vlivů jsou navržena dostatečná opatření k jejich eliminaci či minimalizaci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míra zpracování projektové dokumentace umožňuje posouzení navrhovaného opatření a je dostatečným podkladem pro realizaci i následnou kontrolu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ení v rozporu s územně plánovací dokumentací nebo schválenými pozemkovými úpravami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ezpůsobí svojí realizací významný pokles biodiverzity v lokalitě a zároveň nedojde k nevratnému negativnímu ovlivnění nebo zásahu do biotopů zvláště chráněných nebo ohrožených druhů rostlin a živočichů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60560" indent="-19656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60560" indent="-19656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30400" indent="-230400">
              <a:spcBef>
                <a:spcPts val="45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D65F-9F81-4C60-90DD-631F5EE209E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3720" indent="-24372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mínky pro poskytnutí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edmět podpory musí být realizován na plochách, které jsou nebo budou součástí veřejné zeleně, která je přístupná každému bez omezení nebo součástí zeleně na jiných plochách, přičemž i tato zeleň musí být alespoň omezeně přístupná Předmětem podpory nemůže být podpora zakládání nebo obnovy veřejně nepřístupné zeleně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 případě obcí, které mají schválený územní plán – další specifické podmínky, viz bod 14.1.1 výzv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 musí být realizován z většiny, tedy více jak z 50 %, uvnitř zastavěného nebo zastavitelného území obce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3720" indent="-24372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CEC2-3874-42F9-89B9-4A4EB58A697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6600" indent="-2466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ůsobilé výdaje pro podporovanou aktivitu: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rojektová příprava, max. 10 % z realizačních ZV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služby či dodávky a související stavební práce přímo související s výsadbou dřevin a na dokončovací a rozvojovou péči (nejdéle po dobu 3 let od ukončení realizace výsadeb)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ochranu dřevin a ošetření stávajících dřevin (výchovný, zdravotní a bezpečnostní řez, stabilizační opatření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opatření k zajištění podmínek pro existenci volně žijících živočichů a na podporu biodiverzity v sídlech (tvorba úkrytů pro plazy a drobné obratlovce, podpora hnízdění ptáků, apod.)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kácení dřevin je způsobilým výdajem pouze v případě, že bude prokazatelně nezbytné k založení nové zeleně, případně k revitalizaci stávající zeleně (důvodem bude zejména špatný zdravotní stav dřevin, rizikovost vůči okolí). Důvody kácení budou vždy podloženy dendrologickým průzkumem a v případě, že z pokácené dřevní hmoty vznikne příjem, musí být tento příjem přiznán poskytovateli dotace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EA30-FAB3-427E-BD28-C47F6335C92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268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0400" indent="-2304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ůsobilé výdaje související s podporovanou aktivitou (max. do výše 40 % z CZV):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demolici stávajících nefunkčních zařízení ve veřejných prostranstvích a následná rekultivace těchto ploch v souladu s daným prostředím, výdaje na přeměnu nepropustných ploch na plochy propustné a polopropustné (např. štěrkové trávníky, zatravňovací dlaždice), rekonstrukce a realizace propustných a polopropustných cest a pěšin z přírodních materiálů (např. štěrk, kámen, mlat, písek), mostků, propustí, chodníků, včetně terénních úprav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obnovu a zakládání doprovodných vodních prvků a ploch přírodě blízkého charakteru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opatření ke zvýšení infiltrace srážkových vod na plochách zakládané a regenerované zeleně, a to včetně nezbytných přímo souvisejících technických opatření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pořízení a instalaci nového, či rekonstrukce stávajícího mobiliáře (výše podpory u těchto opatření je maximálně do výše 20 % celkových způsobilých výdajů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AC0D-803C-4FE0-8516-D7A174DA793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4130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1200" indent="-241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Administrac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Žadatel předloží k Žádosti o poskytnutí podpory  odborný posudek (zpracuje místně příslušné RP AOPK ČR)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Žádosti budou po kontrole formální úplnosti a přijatelnosti hodnoceny na základě výběrových kritérií (podpořeny mohou být Žádosti, které v rámci hodnocení získaly 50 a více bodů.)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měny projektu 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Příjemce podpory je povinen oznámit Fondu jakékoliv změny (identifikačních a kontaktních údajů, parametrů projektu, podmínek realizace projektu, skutečností a podmínek obsažených ve Smlouvě aj.) a to od předložení žádosti do uplynutí doby udržitelnosti.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Fond je povinen posoudit avizované změny a jejich soulad s podmínkami Programu a změnu dle posouzení buď odsouhlasí, nebo zamítne. Změna podmínek podléhá vždy souhlasu Fondu a může opravňovat Fond k odstoupení od Smlouvy či k uplatnění smluvních sankcí.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8818-0B09-42E4-B3D3-A013892BE0B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9040" indent="-41904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 Žádost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276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Formulář Žádosti o poskytnutí podpory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276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Aktuální výpis z katastru nemovitostí a snímek katastrální mapy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276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Povolení ke kácení dřevin dle § 8 zákona č. 114/1992 Sb. o ochraně přírody a krajiny, pokud je součástí projektu kácení dřevin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276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Odborný posudek, který zpracuje AOPK ČR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276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Projektová dokumentace nebo prováděcí dokumentace včetně položkového rozpočtu – projektová dokumentace se předkládá v konečném stupni přípravy pro daný typ projektu, který umožní posouzení opatření a posouzení možnosti poskytnutí podpory na jeho realizaci, průběžnou a závěrečnou kontrolu z věcného, ekonomického a ekologického hlediska. Součástí projektové dokumentace je oceněný položkový výkaz výměr (ve struktuře katalogu cen stavebních prací s uvedením ceníkových čísel jednotlivých položek) a mapové podklady vhodného měřítka a druhu umožňující identifikaci rozsahu opatření.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692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F148-CFDE-4530-9704-E4B22D80EB4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Slezak Michal</cp:lastModifiedBy>
  <dcterms:modified xsi:type="dcterms:W3CDTF">2016-11-10T13:17:39Z</dcterms:modified>
  <cp:revision>179</cp:revision>
  <dc:subject/>
  <dc:title>Snímek 1</dc:title>
</cp:coreProperties>
</file>