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856-9C9E-413D-9B1A-298BC227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A9C-0039-4DA1-95E4-E7FEC678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23B9-58D8-45FB-9E38-00A786AC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F02-03FE-43AC-B70B-725A5111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7CCE-40BA-4C2D-9549-75D3F895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DC5E-7FBF-42BE-A6BE-3B27E4C7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A83D-45BC-4F75-A69D-365F6496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EB47-244A-4F1F-9DBC-DC2AA9B8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5700-3D95-4D31-87B9-E0A012E1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B1C2-B8E4-4A00-A56A-C5EAF7C6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C9DB-4666-47E4-A03E-6FC9AE17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E34-9799-48F6-A5B4-9040A1D5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DF40-6340-4F4D-AF42-A6D645AB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097D-9E8D-4F4E-A3C4-596BF150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8BFC-3E54-4738-86A3-B836CDE4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355F-5F33-472A-9E04-F38F84B0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6817-72B3-43A9-AAF9-71C0FAF8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CBE-BC59-4D0A-85A9-780AECAE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D5F0-76B6-4069-ADF9-0ABB3781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D9D-DBF7-4B38-9182-5D043389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4E9-5FD0-4B34-95F5-47C01B4A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DE92-670A-4F4C-A950-94B757BA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164-8712-40B7-9EBC-48C310E2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628-DB11-43EE-946D-ABDE3F12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40CF-D31C-405A-BFEC-BBF94FE4A1D9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SFZP_H_RGB_NEW"/>
          <p:cNvPicPr/>
          <p:nvPr/>
        </p:nvPicPr>
        <p:blipFill>
          <a:blip r:embed="rId2"/>
          <a:stretch/>
        </p:blipFill>
        <p:spPr>
          <a:xfrm>
            <a:off x="468360" y="1538280"/>
            <a:ext cx="3743280" cy="1027080"/>
          </a:xfrm>
          <a:prstGeom prst="rect">
            <a:avLst/>
          </a:prstGeom>
          <a:ln w="0">
            <a:noFill/>
          </a:ln>
        </p:spPr>
      </p:pic>
      <p:pic>
        <p:nvPicPr>
          <p:cNvPr id="46" name="Obrázek 11" descr="Mozaika_prezentace_V.jpg"/>
          <p:cNvPicPr/>
          <p:nvPr/>
        </p:nvPicPr>
        <p:blipFill>
          <a:blip r:embed="rId3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949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AC4F-558A-4C20-9A74-7E7FC1EAC278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9440" y="157320"/>
            <a:ext cx="737712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Unicode MS"/>
              </a:rPr>
              <a:t>NPŽP 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3068280"/>
            <a:ext cx="73915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f9c35"/>
                </a:solidFill>
                <a:latin typeface="Arial Unicode MS"/>
              </a:rPr>
              <a:t>Chytré obce</a:t>
            </a:r>
            <a:endParaRPr b="1" lang="en-US" sz="3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f9c35"/>
                </a:solidFill>
                <a:latin typeface="Segoe"/>
              </a:rPr>
              <a:t>Výzva č. 12/2016</a:t>
            </a:r>
            <a:br>
              <a:rPr sz="3600"/>
            </a:br>
            <a:r>
              <a:rPr b="1" lang="cs-CZ" sz="2500" spc="-1" strike="noStrike">
                <a:solidFill>
                  <a:srgbClr val="3f9c35"/>
                </a:solidFill>
                <a:latin typeface="Segoe"/>
              </a:rPr>
              <a:t>Likvidace nepotřebných vrtů</a:t>
            </a:r>
            <a:endParaRPr b="1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Diskuz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000000"/>
                </a:solidFill>
                <a:latin typeface="Arial Unicode MS"/>
              </a:rPr>
              <a:t>Prostor pro vaše dotazy. </a:t>
            </a:r>
            <a:endParaRPr b="1" lang="en-US" sz="3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C953-A66C-4D71-8852-B1924280FC1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2B89-00BC-4BC3-87CF-702BDFC867BE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Unicode MS"/>
              </a:rPr>
              <a:t>NPŽP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ěkuji za pozornost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692360" y="4935600"/>
            <a:ext cx="60944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tátní fond životního prostředí České republiky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aplanova 1931/1, 148 00 Praha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orespondenční a kontaktní adresa: Olbrachtova 2006/9, 140 00  Praha 4,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tel.: +420 267 994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jmeno.prijmeni@sfzp.cz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sfzp.cz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SFZP_H_RGB_NEW"/>
          <p:cNvPicPr/>
          <p:nvPr/>
        </p:nvPicPr>
        <p:blipFill>
          <a:blip r:embed="rId1"/>
          <a:srcRect l="0" t="0" r="71719" b="0"/>
          <a:stretch/>
        </p:blipFill>
        <p:spPr>
          <a:xfrm>
            <a:off x="539640" y="5032440"/>
            <a:ext cx="865440" cy="839880"/>
          </a:xfrm>
          <a:prstGeom prst="rect">
            <a:avLst/>
          </a:prstGeom>
          <a:ln w="0">
            <a:noFill/>
          </a:ln>
        </p:spPr>
      </p:pic>
      <p:pic>
        <p:nvPicPr>
          <p:cNvPr id="122" name="Obrázek 7" descr="Mozaika_prezentace_V.jpg"/>
          <p:cNvPicPr/>
          <p:nvPr/>
        </p:nvPicPr>
        <p:blipFill>
          <a:blip r:embed="rId2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2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Likvidace nepotřebných vrtů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Cíl Výzv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Likvidace nepotřebných hydrogeologických vrtů, které představují riziko ohrožení životního prostředí, především jakosti či množství podzemních vod nebo ohrožení zdraví či života obyvatel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Oprávnění příjemci podpor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Státní příspěvkové organizace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Obce, dobrovolné svazky obcí a kraje, a to i na vrty jejichž původce není znám nebo neexistuj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511F-828E-42E6-9689-95E5C1DF1B9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2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Likvidace nepotřebných vrtů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Segoe"/>
              </a:rPr>
              <a:t>Termíny Výzv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Zahájení příjmu Žádostí 1. 11. 2016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Ukončení příjmu Žádostí 28. 04. 2019 nebo do vyčerpání aloka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lnSpc>
                <a:spcPct val="100000"/>
              </a:lnSpc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Segoe"/>
              </a:rPr>
              <a:t>Forma a výše podpor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Max. 90 % z celkových způsobilých výdajů. Dotace může být poskytnuta maximálně do výše alokace této Výzvy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714B-CCC0-4EAF-A015-DA9AA7B18068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2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Likvidace nepotřebných vrtů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9920" indent="-25992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působilé výdaje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966600" indent="-44316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jektová příprava, max. 10 % u projektů se ZV do 1 mil. Kč, 5 % u zbývajících projektů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66600" indent="-44316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lastní likvidace vrtu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96280" indent="-2214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Geologická činnost související s likvidací vrtu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96280" indent="-2214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Technické práce bezprostředně související s likvidací vrtu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96280" indent="-2214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Zásyp vrtu inertním materiálem v daném hloubkovém intervalu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96280" indent="-2214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Betonáž úsťového mostu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96280" indent="-2214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Obkopání vrtu v potřebném hloubkovém intervalu,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96280" indent="-2214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Zásyp výkopu, úklid okolí vrtu, likvidace odpadu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96280" indent="-2214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Vyvolané investice v přímo souvislosti s projektem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0F4E-4B9A-482F-9D67-218FAA0242EA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2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Likvidace nepotřebných vrtů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Administrace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esoutěžní Výz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Žádosti budou administrovány průběžně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odpořeny budou projekty, které splní požadavky Směrnice, Programem a Výzvou, a to do výše disponibilní alokace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3BBD-7BD5-4C0F-8DB3-04D80302657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2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Likvidace nepotřebných vrtů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okumenty předkládané k Žádosti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spcBef>
                <a:spcPts val="4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Formulář Žádosti o poskytnutí podpor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spcBef>
                <a:spcPts val="4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Dokumenty prokazující vlastnictví či správu předmětu likvidace (vrtu) nebo doložení, že vlastník, či původce vrtu není znám nebo neexistuj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spcBef>
                <a:spcPts val="4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Aktuální výpis z katastru nemovitostí týkající se pozemku, na němž se nachází předmět podpor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spcBef>
                <a:spcPts val="4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ísemnou dohodu o přístupu na pozemek a o provádění prací v souvislosti s likvidací vrtu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spcBef>
                <a:spcPts val="4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Odborný posude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DC6A-6F36-43BC-B5E0-F12760B226A8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2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Likvidace nepotřebných vrtů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Dokumenty předkládané ke Smlouvě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Projekt geologických prací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Kopie dokumentace k zadávacímu řízení vč. smlouvy o díl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Kopie smlouvy o zřízení běžného účt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Doklad o jmenování či volbě statutárního zástupce žadatele a o způsobu jednání žadate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C182-ADEB-4A63-95A8-C6AECD0C0ED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2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Likvidace nepotřebných vrtů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2800" indent="-2628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K Žádosti o uvolnění finančních prostředků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668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Formulář Žádosti o uvolnění finančních prostředků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668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Formulář Přehled čerpání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668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Kopie faktur a ostatních účetních dokladů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668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Protokol o likvidaci vrtu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668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Kopie bankovních výpisů prokazující uhrazení faktur a účetní doklad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668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Protokol o předání pozemku majiteli/uživateli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62800" indent="-2628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Dokumenty předkládané k ZVA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668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Formulář ZV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668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Závěrečná zpráva o projektu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668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a další dokumenty definované ve Smlouvě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EC85-C3BC-4CB5-83D9-31AE8D42F15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2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Likvidace nepotřebných vrtů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4520" indent="-25452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To nejdůležitější z Podmínek Výzv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Segoe"/>
              </a:rPr>
              <a:t>Příjemce podpory odpovídá za informování veřejnosti o tom, že projekt byl realizován za finanční spoluúčasti Fondu (publicita není způsobilým výdajem)</a:t>
            </a:r>
            <a:endParaRPr b="0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Segoe"/>
              </a:rPr>
              <a:t>Podpořeny budou vrty, které byly vybudována za účelem průzkumu, jímání či monitorování podzemní vody, nejsou nyní z hlediska svého původního účelu již potřebné ani jinak využitelné a představují riziko pro životní prostředí</a:t>
            </a:r>
            <a:endParaRPr b="0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Segoe"/>
              </a:rPr>
              <a:t>Jeden projekt může řešit i likvidaci více vrtů</a:t>
            </a:r>
            <a:endParaRPr b="0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Segoe"/>
              </a:rPr>
              <a:t>Kontrola provedení opatření 5 let od uzavření Smlouvy</a:t>
            </a:r>
            <a:endParaRPr b="0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7D71-4666-48C9-A61C-7A0899B05A3A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3:11:54Z</dcterms:created>
  <dc:creator>mpecnova</dc:creator>
  <dc:description/>
  <dc:language>en-US</dc:language>
  <cp:lastModifiedBy>Zavada Vaclav</cp:lastModifiedBy>
  <dcterms:modified xsi:type="dcterms:W3CDTF">2016-11-11T09:09:42Z</dcterms:modified>
  <cp:revision>138</cp:revision>
  <dc:subject/>
  <dc:title>Snímek 1</dc:title>
</cp:coreProperties>
</file>