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F98E-5DEB-447B-8BD1-0D946935F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760" y="396432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AD61-9255-41D3-8F91-7C8515BFD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2876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860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0CD8-8DBA-431D-8F84-5A9A76E92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0616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8392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2876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0616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8392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3F7D-A600-484C-BFCE-05A085DD5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2D467-1395-4D45-87FE-B07884000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33089-2BF8-4649-A727-0353A4BB0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30888-7A92-4064-B6A0-C1AD31369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B38F3-B887-42B4-8CE4-67A7C628E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88F1F-44FB-4575-9C20-C308C0724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27236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E5CDC-F2BE-4DAB-A2DE-C7C5D5641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2876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48F86-74DD-4760-9512-2DE2B1FEA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236E-0557-4994-A7E5-D56A81E2B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860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66813-52A0-4B7A-B0FF-07EB32CA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28760" y="396432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C7407-6A1B-4F1A-968A-607055EBC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28760" y="396432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C29CD-95EB-472D-8EA3-71B302D1F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2876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3860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4FF76-6580-4512-BA70-5B1B92204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0616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8392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2876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0616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8392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29191-3B1F-44B9-B0A6-614073CBB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B127-F614-4B52-8EAD-A9489A930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FAA6-E863-4BD8-94D3-5D3E0EB6A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2C4B-1955-4DAF-977A-9B1D78D89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27236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EB02-C46E-4A23-A6E6-34F8BA8E1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2876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27FA-8F15-47E8-94E4-B8D7CCF3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860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2B75-B338-4A58-AE21-BC2FC1851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760" y="396432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532F-B95C-4558-B7EA-7B128597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1216080"/>
          </a:xfrm>
          <a:prstGeom prst="rect">
            <a:avLst/>
          </a:prstGeom>
          <a:solidFill>
            <a:srgbClr val="3f9c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-268200">
              <a:spcBef>
                <a:spcPts val="700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33360" indent="-22860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41600" indent="-22860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7376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93683-50B1-44AD-A713-0137C481443C}" type="slidenum">
              <a:rPr b="0" lang="cs-CZ" sz="1400" spc="-1" strike="noStrike">
                <a:solidFill>
                  <a:srgbClr val="73767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7927920" y="0"/>
            <a:ext cx="1216080" cy="121608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1"/>
          <p:cNvSpPr/>
          <p:nvPr/>
        </p:nvSpPr>
        <p:spPr>
          <a:xfrm>
            <a:off x="0" y="0"/>
            <a:ext cx="9144000" cy="1216080"/>
          </a:xfrm>
          <a:prstGeom prst="rect">
            <a:avLst/>
          </a:prstGeom>
          <a:solidFill>
            <a:srgbClr val="3f9c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7927920" y="0"/>
            <a:ext cx="1216080" cy="121608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3" descr="SFZP_H_RGB_NEW"/>
          <p:cNvPicPr/>
          <p:nvPr/>
        </p:nvPicPr>
        <p:blipFill>
          <a:blip r:embed="rId2"/>
          <a:stretch/>
        </p:blipFill>
        <p:spPr>
          <a:xfrm>
            <a:off x="468360" y="1538280"/>
            <a:ext cx="3743280" cy="1027080"/>
          </a:xfrm>
          <a:prstGeom prst="rect">
            <a:avLst/>
          </a:prstGeom>
          <a:ln w="0">
            <a:noFill/>
          </a:ln>
        </p:spPr>
      </p:pic>
      <p:pic>
        <p:nvPicPr>
          <p:cNvPr id="46" name="Obrázek 11" descr="Mozaika_prezentace_V.jpg"/>
          <p:cNvPicPr/>
          <p:nvPr/>
        </p:nvPicPr>
        <p:blipFill>
          <a:blip r:embed="rId3"/>
          <a:stretch/>
        </p:blipFill>
        <p:spPr>
          <a:xfrm>
            <a:off x="7927920" y="0"/>
            <a:ext cx="121608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-268200">
              <a:spcBef>
                <a:spcPts val="700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33360" indent="-22860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41600" indent="-22860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94920" y="6244920"/>
            <a:ext cx="2195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95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7376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631EA-8031-4987-8B4D-75310464622A}" type="slidenum">
              <a:rPr b="0" lang="cs-CZ" sz="1400" spc="-1" strike="noStrike">
                <a:solidFill>
                  <a:srgbClr val="73767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79440" y="157320"/>
            <a:ext cx="7377120" cy="86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 Unicode MS"/>
              </a:rPr>
              <a:t>NPŽP </a:t>
            </a: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95280" y="3068280"/>
            <a:ext cx="73915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3f9c35"/>
                </a:solidFill>
                <a:latin typeface="Arial Unicode MS"/>
              </a:rPr>
              <a:t>Chytré obce</a:t>
            </a:r>
            <a:endParaRPr b="1" lang="en-US" sz="3400" spc="-1" strike="noStrike">
              <a:solidFill>
                <a:srgbClr val="000000"/>
              </a:solidFill>
              <a:latin typeface="Arial Unicode MS"/>
            </a:endParaRPr>
          </a:p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3f9c35"/>
                </a:solidFill>
                <a:latin typeface="Segoe"/>
              </a:rPr>
              <a:t>Výzva č. 8/2016</a:t>
            </a:r>
            <a:br>
              <a:rPr sz="2500"/>
            </a:br>
            <a:r>
              <a:rPr b="1" lang="cs-CZ" sz="2500" spc="-1" strike="noStrike">
                <a:solidFill>
                  <a:srgbClr val="3f9c35"/>
                </a:solidFill>
                <a:latin typeface="Segoe"/>
              </a:rPr>
              <a:t>Průzkum, posílení a budování zdrojů pitné vody</a:t>
            </a:r>
            <a:endParaRPr b="1" lang="en-US" sz="2500" spc="-1" strike="noStrike">
              <a:solidFill>
                <a:srgbClr val="000000"/>
              </a:solidFill>
              <a:latin typeface="Arial Unicode MS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Unicode MS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Segoe"/>
              </a:rPr>
              <a:t>Výzva č. 8/2016</a:t>
            </a:r>
            <a:br>
              <a:rPr sz="2800"/>
            </a:br>
            <a:r>
              <a:rPr b="1" lang="cs-CZ" sz="2000" spc="-1" strike="noStrike">
                <a:solidFill>
                  <a:srgbClr val="ffffff"/>
                </a:solidFill>
                <a:latin typeface="Segoe"/>
              </a:rPr>
              <a:t>Průzkum, posílení a budování zdrojů pitné vody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lnSpc>
                <a:spcPct val="100000"/>
              </a:lnSpc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egoe"/>
              </a:rPr>
              <a:t>Publicita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egoe"/>
              </a:rPr>
              <a:t>Týká se projektů nad 1 mil. Kč. V takovém případě jsou žadatelé, resp. příjemci podpory povinni umístit v místě realizace projektu informační tabuli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6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FF2B0-416B-46CE-9E7C-64F2C58ECCFC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Segoe"/>
              </a:rPr>
              <a:t>Výzva č. 8/2016</a:t>
            </a:r>
            <a:br>
              <a:rPr sz="2800"/>
            </a:br>
            <a:r>
              <a:rPr b="1" lang="cs-CZ" sz="2000" spc="-1" strike="noStrike">
                <a:solidFill>
                  <a:srgbClr val="ffffff"/>
                </a:solidFill>
                <a:latin typeface="Segoe"/>
              </a:rPr>
              <a:t>Průzkum, posílení a budování zdrojů pitné vody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lnSpc>
                <a:spcPct val="100000"/>
              </a:lnSpc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egoe"/>
              </a:rPr>
              <a:t>To nejdůležitější z Podmínek Výzvy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egoe"/>
              </a:rPr>
              <a:t>Pokud je v obci vybudován rozvod pitné vody, je žadatel povinen zajistit napojení nového zdroje vody do tohoto rozvoru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egoe"/>
              </a:rPr>
              <a:t>Žadatel nesmí uplatňovat stejné způsobilé výdaje v jiném dotačním programu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egoe"/>
              </a:rPr>
              <a:t>Žadatel je povinen zajistit udržitelnost projektu po dobu 5 let od dokončení realizace projektu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9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8FF64-F7E7-431D-B7B5-B3BC9AE1D3B0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Diskuze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000000"/>
                </a:solidFill>
                <a:latin typeface="Arial Unicode MS"/>
              </a:rPr>
              <a:t>Prostor pro vaše dotazy. </a:t>
            </a:r>
            <a:endParaRPr b="1" lang="en-US" sz="3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2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16070-B7FB-43BF-A3F6-B76F918A3394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82FDB-B3E7-4CE9-8A45-6316716813A3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 Unicode MS"/>
              </a:rPr>
              <a:t>NPŽP</a:t>
            </a: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Děkuji za pozornost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1692360" y="4935600"/>
            <a:ext cx="609444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 Unicode MS"/>
              </a:rPr>
              <a:t>Státní fond životního prostředí České republiky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Arial Unicode MS"/>
              </a:rPr>
              <a:t>Kaplanova 1931/1, 148 00 Praha 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 Unicode MS"/>
              </a:rPr>
              <a:t>korespondenční a kontaktní adresa: Olbrachtova 2006/9, 140 00  Praha 4,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Arial Unicode MS"/>
              </a:rPr>
              <a:t>tel.: +420 267 994 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46ad"/>
                </a:solidFill>
                <a:latin typeface="Arial Unicode MS"/>
              </a:rPr>
              <a:t>jmeno.prijmeni@sfzp.cz </a:t>
            </a:r>
            <a:r>
              <a:rPr b="0" lang="cs-CZ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400" spc="-1" strike="noStrike">
                <a:solidFill>
                  <a:srgbClr val="0046ad"/>
                </a:solidFill>
                <a:latin typeface="Arial Unicode MS"/>
              </a:rPr>
              <a:t>www.sfzp.cz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cs-CZ" sz="800" spc="-1" strike="noStrike">
                <a:solidFill>
                  <a:srgbClr val="73767d"/>
                </a:solidFill>
                <a:latin typeface="Arial Unicode MS"/>
              </a:rPr>
              <a:t>  </a:t>
            </a:r>
            <a:r>
              <a:rPr b="1" lang="cs-CZ" sz="1400" spc="-1" strike="noStrike">
                <a:solidFill>
                  <a:srgbClr val="3f9c35"/>
                </a:solidFill>
                <a:latin typeface="Arial Unicode MS"/>
              </a:rPr>
              <a:t>zelená linka 800 260 500</a:t>
            </a:r>
            <a:r>
              <a:rPr b="0" lang="cs-CZ" sz="1200" spc="-1" strike="noStrike">
                <a:solidFill>
                  <a:srgbClr val="73767d"/>
                </a:solidFill>
                <a:latin typeface="Arial Unicode MS"/>
              </a:rPr>
              <a:t> </a:t>
            </a:r>
            <a:r>
              <a:rPr b="0" lang="cs-CZ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cs-CZ" sz="800" spc="-1" strike="noStrike">
                <a:solidFill>
                  <a:srgbClr val="73767d"/>
                </a:solidFill>
                <a:latin typeface="Arial Unicode MS"/>
              </a:rPr>
              <a:t>  </a:t>
            </a:r>
            <a:r>
              <a:rPr b="1" lang="cs-CZ" sz="1400" spc="-1" strike="noStrike">
                <a:solidFill>
                  <a:srgbClr val="0046ad"/>
                </a:solidFill>
                <a:latin typeface="Arial Unicode MS"/>
              </a:rPr>
              <a:t>dotazy@sfzp.c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7" descr="SFZP_H_RGB_NEW"/>
          <p:cNvPicPr/>
          <p:nvPr/>
        </p:nvPicPr>
        <p:blipFill>
          <a:blip r:embed="rId1"/>
          <a:srcRect l="0" t="0" r="71719" b="0"/>
          <a:stretch/>
        </p:blipFill>
        <p:spPr>
          <a:xfrm>
            <a:off x="539640" y="5032440"/>
            <a:ext cx="865440" cy="839880"/>
          </a:xfrm>
          <a:prstGeom prst="rect">
            <a:avLst/>
          </a:prstGeom>
          <a:ln w="0">
            <a:noFill/>
          </a:ln>
        </p:spPr>
      </p:pic>
      <p:pic>
        <p:nvPicPr>
          <p:cNvPr id="128" name="Obrázek 7" descr="Mozaika_prezentace_V.jpg"/>
          <p:cNvPicPr/>
          <p:nvPr/>
        </p:nvPicPr>
        <p:blipFill>
          <a:blip r:embed="rId2"/>
          <a:stretch/>
        </p:blipFill>
        <p:spPr>
          <a:xfrm>
            <a:off x="7927920" y="0"/>
            <a:ext cx="121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Segoe"/>
              </a:rPr>
              <a:t>Výzva č. 8/2016</a:t>
            </a:r>
            <a:br>
              <a:rPr sz="2800"/>
            </a:br>
            <a:r>
              <a:rPr b="1" lang="cs-CZ" sz="2000" spc="-1" strike="noStrike">
                <a:solidFill>
                  <a:srgbClr val="ffffff"/>
                </a:solidFill>
                <a:latin typeface="Segoe"/>
              </a:rPr>
              <a:t>Průzkum, posílení a budování zdrojů pitné vody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2000" indent="-252000">
              <a:lnSpc>
                <a:spcPct val="100000"/>
              </a:lnSpc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egoe"/>
              </a:rPr>
              <a:t>Cíl Výzvy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75800" indent="-268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Segoe"/>
              </a:rPr>
              <a:t>Zlepšení zásobování pitnou vodou v odpovídající kvalitě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75800" indent="-268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Segoe"/>
              </a:rPr>
              <a:t>Vyhledání nových podzemních zdrojů vody pro zásobování obyvatelstva pitnou vodou v odpovídající kvalitě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252000" indent="-252000">
              <a:lnSpc>
                <a:spcPct val="100000"/>
              </a:lnSpc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egoe"/>
              </a:rPr>
              <a:t>Oprávnění příjemci podpory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75800" indent="-268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Segoe"/>
              </a:rPr>
              <a:t>Obce a Dobrovolné svazky obcí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75800" indent="-268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Segoe"/>
              </a:rPr>
              <a:t>Příspěvkové organizace územních samosprávných celků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75800" indent="-268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Segoe"/>
              </a:rPr>
              <a:t>Obchodní společnosti ovládané z více než 50 % veřejným subjektem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252000" indent="-252000">
              <a:lnSpc>
                <a:spcPct val="100000"/>
              </a:lnSpc>
              <a:spcBef>
                <a:spcPts val="550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Segoe"/>
              </a:rPr>
              <a:t>Termíny Výzvy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75800" indent="-268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Segoe"/>
              </a:rPr>
              <a:t>Zahájení příjmu Žádostí 11. 7. 2016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75800" indent="-268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Segoe"/>
              </a:rPr>
              <a:t>Ukončení příjmu Žádostí 30. 6. 2017, nebo do vyčerpání alokace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2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C947D-C7F6-4960-A95A-3DFF51864478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Segoe"/>
              </a:rPr>
              <a:t>Výzva č. 8/2016</a:t>
            </a:r>
            <a:br>
              <a:rPr sz="2800"/>
            </a:br>
            <a:r>
              <a:rPr b="1" lang="cs-CZ" sz="2000" spc="-1" strike="noStrike">
                <a:solidFill>
                  <a:srgbClr val="ffffff"/>
                </a:solidFill>
                <a:latin typeface="Segoe"/>
              </a:rPr>
              <a:t>Průzkum, posílení a budování zdrojů pitné vody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lnSpc>
                <a:spcPct val="100000"/>
              </a:lnSpc>
              <a:spcBef>
                <a:spcPts val="550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Segoe"/>
              </a:rPr>
              <a:t>Forma a výše podpory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Segoe"/>
              </a:rPr>
              <a:t>Min. 100 tis. Kč, Max. 3 mil. Kč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Segoe"/>
              </a:rPr>
              <a:t>Procentní míra odvislá od akutnosti situace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3336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JohnSans Text Pro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egoe"/>
              </a:rPr>
              <a:t>80 % v případě projektů, které řeší akutní </a:t>
            </a:r>
            <a:r>
              <a:rPr b="1" lang="cs-CZ" sz="1800" spc="-1" strike="noStrike">
                <a:solidFill>
                  <a:srgbClr val="000000"/>
                </a:solidFill>
                <a:latin typeface="Segoe"/>
              </a:rPr>
              <a:t>nedostatek</a:t>
            </a:r>
            <a:r>
              <a:rPr b="0" lang="cs-CZ" sz="1800" spc="-1" strike="noStrike">
                <a:solidFill>
                  <a:srgbClr val="000000"/>
                </a:solidFill>
                <a:latin typeface="Segoe"/>
              </a:rPr>
              <a:t> v zásobování obyvatelstva pitnou vodou v odpovídající kvalitě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3336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JohnSans Text Pro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egoe"/>
              </a:rPr>
              <a:t>70 % v případě projektů, které řeší </a:t>
            </a:r>
            <a:r>
              <a:rPr b="1" lang="cs-CZ" sz="1800" spc="-1" strike="noStrike">
                <a:solidFill>
                  <a:srgbClr val="000000"/>
                </a:solidFill>
                <a:latin typeface="Segoe"/>
              </a:rPr>
              <a:t>možný nedostatek </a:t>
            </a:r>
            <a:r>
              <a:rPr b="0" lang="cs-CZ" sz="1800" spc="-1" strike="noStrike">
                <a:solidFill>
                  <a:srgbClr val="000000"/>
                </a:solidFill>
                <a:latin typeface="Segoe"/>
              </a:rPr>
              <a:t>v zásobování obyvatelstva pitnou vodou v odpovídající kvalitě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3336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JohnSans Text Pro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egoe"/>
              </a:rPr>
              <a:t>60 % v případě, že </a:t>
            </a:r>
            <a:r>
              <a:rPr b="1" lang="cs-CZ" sz="1800" spc="-1" strike="noStrike">
                <a:solidFill>
                  <a:srgbClr val="000000"/>
                </a:solidFill>
                <a:latin typeface="Segoe"/>
              </a:rPr>
              <a:t>nehrozí reálné riziko </a:t>
            </a:r>
            <a:r>
              <a:rPr b="0" lang="cs-CZ" sz="1800" spc="-1" strike="noStrike">
                <a:solidFill>
                  <a:srgbClr val="000000"/>
                </a:solidFill>
                <a:latin typeface="Segoe"/>
              </a:rPr>
              <a:t>nedostatku pitné vody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lnSpc>
                <a:spcPct val="100000"/>
              </a:lnSpc>
              <a:spcBef>
                <a:spcPts val="550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Segoe"/>
              </a:rPr>
              <a:t>Specifická kritéria přijatelnosti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Segoe"/>
              </a:rPr>
              <a:t>Řešené území (obec) není napojena na kapacitní vodárenskou soustavu nebo pokud je možné a efektivní využít povrchové zdroje vody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3336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JohnSans Text Pro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3336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JohnSans Text Pro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lnSpc>
                <a:spcPct val="100000"/>
              </a:lnSpc>
              <a:spcBef>
                <a:spcPts val="451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5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0284D-1C20-41C0-AA4A-7DEAE77F4F39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Segoe"/>
              </a:rPr>
              <a:t>Výzva č. 8/2016</a:t>
            </a:r>
            <a:br>
              <a:rPr sz="2800"/>
            </a:br>
            <a:r>
              <a:rPr b="1" lang="cs-CZ" sz="2000" spc="-1" strike="noStrike">
                <a:solidFill>
                  <a:srgbClr val="ffffff"/>
                </a:solidFill>
                <a:latin typeface="Segoe"/>
              </a:rPr>
              <a:t>Průzkum, posílení a budování zdrojů pitné vody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lnSpc>
                <a:spcPct val="100000"/>
              </a:lnSpc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egoe"/>
              </a:rPr>
              <a:t>Způsobilé výdaje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99684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ego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egoe"/>
              </a:rPr>
              <a:t>Projektová příprava, max. 10 % z realizačních ZV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99684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ego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egoe"/>
              </a:rPr>
              <a:t>Zpracování dat a vyhodnocení výsledků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99684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ego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egoe"/>
              </a:rPr>
              <a:t>Stavební práce a související služby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3336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JohnSans Text Pro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Segoe"/>
              </a:rPr>
              <a:t>Průzkum a analýza lokalit s možným výskytem kvalitní podzemní pitné vody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3336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JohnSans Text Pro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Segoe"/>
              </a:rPr>
              <a:t>Vybudování a vystrojení nových podzemních zdrojů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3336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JohnSans Text Pro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Segoe"/>
              </a:rPr>
              <a:t>Napojení vybudovaných zdrojů vody na stávající rozvody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3336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JohnSans Text Pro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Segoe"/>
              </a:rPr>
              <a:t>Vybudování odběrného místa pitné vody v místech, kde není vybudován rozvod pitné vody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99684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ego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egoe"/>
              </a:rPr>
              <a:t>Publicita, max. 100 tis. Kč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8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72B04-304E-41D0-AC30-13B5050EAB54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Segoe"/>
              </a:rPr>
              <a:t>Výzva č. 8/2016</a:t>
            </a:r>
            <a:br>
              <a:rPr sz="2800"/>
            </a:br>
            <a:r>
              <a:rPr b="1" lang="cs-CZ" sz="2000" spc="-1" strike="noStrike">
                <a:solidFill>
                  <a:srgbClr val="ffffff"/>
                </a:solidFill>
                <a:latin typeface="Segoe"/>
              </a:rPr>
              <a:t>Průzkum, posílení a budování zdrojů pitné vody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lnSpc>
                <a:spcPct val="100000"/>
              </a:lnSpc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egoe"/>
              </a:rPr>
              <a:t>Způsobilé výdaje v praxi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egoe"/>
              </a:rPr>
              <a:t>Podporu je možné poskytnout na vybudování nového či zkapacitnění stávajícího vodojemu, pokud je to nezbytné pro zajištění dodávek pitné vody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egoe"/>
              </a:rPr>
              <a:t>Podporu je možné poskytnout na napojení zdroje pitné vody, který nebyl zřízen v rámci projektu, na stávající rozvod pitné vody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egoe"/>
              </a:rPr>
              <a:t>Je možno získat podporu na likvidaci průzkumného vrtu zřízeného v rámci projektu, který není využitelný jako zdroj pitné vody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1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0CDDD-6E91-430A-826F-4E529FC38BC9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Segoe"/>
              </a:rPr>
              <a:t>Výzva č. 8/2016</a:t>
            </a:r>
            <a:br>
              <a:rPr sz="2800"/>
            </a:br>
            <a:r>
              <a:rPr b="1" lang="cs-CZ" sz="2000" spc="-1" strike="noStrike">
                <a:solidFill>
                  <a:srgbClr val="ffffff"/>
                </a:solidFill>
                <a:latin typeface="Segoe"/>
              </a:rPr>
              <a:t>Průzkum, posílení a budování zdrojů pitné vody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lnSpc>
                <a:spcPct val="100000"/>
              </a:lnSpc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egoe"/>
              </a:rPr>
              <a:t>Administrace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egoe"/>
              </a:rPr>
              <a:t>Nesoutěžní Výzva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egoe"/>
              </a:rPr>
              <a:t>Žádosti budou administrovány průběžně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egoe"/>
              </a:rPr>
              <a:t>Podpořeny budou projekty, které splní požadavky Směrnice, Programu a Výzvy, a to do výše disponibilní alokac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4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DFF6C-4C85-413E-8708-5D0A36D5A888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Segoe"/>
              </a:rPr>
              <a:t>Výzva č. 8/2016</a:t>
            </a:r>
            <a:br>
              <a:rPr sz="2800"/>
            </a:br>
            <a:r>
              <a:rPr b="1" lang="cs-CZ" sz="2000" spc="-1" strike="noStrike">
                <a:solidFill>
                  <a:srgbClr val="ffffff"/>
                </a:solidFill>
                <a:latin typeface="Segoe"/>
              </a:rPr>
              <a:t>Průzkum, posílení a budování zdrojů pitné vody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lnSpc>
                <a:spcPct val="100000"/>
              </a:lnSpc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egoe"/>
              </a:rPr>
              <a:t>Dokumenty předkládané k Žádosti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2" marL="140508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Sego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Segoe"/>
              </a:rPr>
              <a:t>Formulář Žádosti o poskytnutí podpory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40508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Sego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Segoe"/>
              </a:rPr>
              <a:t>Podrobný popis projektu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40508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Sego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Segoe"/>
              </a:rPr>
              <a:t>Doklad o právní osobnosti jednatele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40508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Sego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Segoe"/>
              </a:rPr>
              <a:t>Aktuální výpis z katastru nemovitostí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40508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Sego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Segoe"/>
              </a:rPr>
              <a:t>Odborný posudek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40508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Sego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Segoe"/>
              </a:rPr>
              <a:t>Dokumenty prokazující nedostatek či nevyhovující kvalitu vody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lvl="1" marL="99684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JohnSans Text Pro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7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7F3C3-F7EE-4258-B831-119319104BE5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Segoe"/>
              </a:rPr>
              <a:t>Výzva č. 8/2016</a:t>
            </a:r>
            <a:br>
              <a:rPr sz="2800"/>
            </a:br>
            <a:r>
              <a:rPr b="1" lang="cs-CZ" sz="2000" spc="-1" strike="noStrike">
                <a:solidFill>
                  <a:srgbClr val="ffffff"/>
                </a:solidFill>
                <a:latin typeface="Segoe"/>
              </a:rPr>
              <a:t>Průzkum, posílení a budování zdrojů pitné vody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lnSpc>
                <a:spcPct val="100000"/>
              </a:lnSpc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egoe"/>
              </a:rPr>
              <a:t>Dokumenty předkládané ke Smlouvě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99684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ego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egoe"/>
              </a:rPr>
              <a:t>Kopie smlouvy o zřízení či vedení účtu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99684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ego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egoe"/>
              </a:rPr>
              <a:t>Kopie dokumentace k zadávacímu řízení vč. smlouvy o dílo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99684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ego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egoe"/>
              </a:rPr>
              <a:t>Doklad o technickém a autorském dozoru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99684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ego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egoe"/>
              </a:rPr>
              <a:t>Stanoviska a rozhodnutí dotčených orgánů státní správy a dalších dotčených orgánů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99684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ego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egoe"/>
              </a:rPr>
              <a:t>Aktuální prohlášení o plátcovství DPH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99684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ego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egoe"/>
              </a:rPr>
              <a:t>Aktualizované dokumenty předložené k Žádosti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0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9EC6B-096F-40DF-8EDC-C11FAE9A36B0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Segoe"/>
              </a:rPr>
              <a:t>Výzva č. 8/2016</a:t>
            </a:r>
            <a:br>
              <a:rPr sz="2800"/>
            </a:br>
            <a:r>
              <a:rPr b="1" lang="cs-CZ" sz="2000" spc="-1" strike="noStrike">
                <a:solidFill>
                  <a:srgbClr val="ffffff"/>
                </a:solidFill>
                <a:latin typeface="Segoe"/>
              </a:rPr>
              <a:t>Průzkum, posílení a budování zdrojů pitné vody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65320" indent="-265320">
              <a:lnSpc>
                <a:spcPct val="100000"/>
              </a:lnSpc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egoe"/>
              </a:rPr>
              <a:t>Dokumenty předkládané k Žádosti o finanční prostředky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986760" indent="-4525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Sego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Segoe"/>
              </a:rPr>
              <a:t>Formulář Žádosti o uvolnění finančních prostředků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lvl="1" marL="986760" indent="-4525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Sego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Segoe"/>
              </a:rPr>
              <a:t>Formulář Přehled čerpání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lvl="1" marL="986760" indent="-4525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Sego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Segoe"/>
              </a:rPr>
              <a:t>Kopie faktur a ostatních účetních dokladů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lvl="1" marL="986760" indent="-4525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Sego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Segoe"/>
              </a:rPr>
              <a:t>Kopie bankovních výpisů prokazující uhrazení faktur a účetních dokladů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marL="265320" indent="-265320">
              <a:lnSpc>
                <a:spcPct val="100000"/>
              </a:lnSpc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egoe"/>
              </a:rPr>
              <a:t>Dokumenty předkládané k ZVA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986760" indent="-4525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Sego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Segoe"/>
              </a:rPr>
              <a:t>Formulář ZVA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lvl="1" marL="986760" indent="-4525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Sego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Segoe"/>
              </a:rPr>
              <a:t>Protokol o předání místa realizace projektu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lvl="1" marL="986760" indent="-4525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Sego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Segoe"/>
              </a:rPr>
              <a:t>a další dokumenty definované ve Smlouvě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lvl="1" marL="986760" indent="-452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JohnSans Text Pro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986760" indent="-45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5320" indent="-265320">
              <a:lnSpc>
                <a:spcPct val="100000"/>
              </a:lnSpc>
              <a:spcBef>
                <a:spcPts val="601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3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BF945-450D-4ADB-9129-85497D29A566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8T13:11:54Z</dcterms:created>
  <dc:creator>mpecnova</dc:creator>
  <dc:description/>
  <dc:language>en-US</dc:language>
  <cp:lastModifiedBy>Zavada Vaclav</cp:lastModifiedBy>
  <dcterms:modified xsi:type="dcterms:W3CDTF">2016-11-11T08:14:42Z</dcterms:modified>
  <cp:revision>159</cp:revision>
  <dc:subject/>
  <dc:title>Snímek 1</dc:title>
</cp:coreProperties>
</file>