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039-0656-4094-924E-A5FC085C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AD7-01D2-4C83-82D2-31C5A8B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345-B57C-4F5C-8738-447D789C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BD3-E1E7-442E-9BEF-FD320463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58F5-82D9-4F10-9694-B0FCE8C6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9F1-CDCE-43A8-BB27-690DFC95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959-824C-47A9-A4D8-8D03ED2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D35-0CA1-40CF-90E3-F90C6DE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ECFA-90F1-48CF-9039-5D02A495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80F2-4DE9-4991-A191-D776C15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9CC-4005-43CF-910C-4045568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A50-2D3C-482D-89B7-27BA5E5F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EEE4-B578-46C6-93ED-8A57790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7A82-3C2E-4F7A-AF84-F9E2B77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194-EF27-4E83-B540-D04135D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4614-56A1-4A96-90A9-534F17B3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166-CE85-43FA-AE34-FB54A6B7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7A3-FFD4-477A-BD0B-808ED2B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622-87F0-4059-9116-74989CD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CE2-B17A-4229-9AF1-51FC5B0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55A-9030-4E03-8026-C45447E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0C9-CD8F-4690-A633-A1C6960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81D-B470-409B-AB70-0F59172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2F4-5B17-4588-A1EE-630D681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FE42-4EA8-4E72-B3CA-3C013C74F82C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336-510D-4BDF-B5FB-2C0F9E44B009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Domovní čistírny odpadních vod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8400" indent="-4284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rmulář Žádosti o poskytnutí podpory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Soupis parcel dotčených realizací projektu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Výpis z katastru nemovitostí z internetové aplikace (nazhlizenidokn.cuzk.cz)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Souhlas vlastníků nemovitostí, dotčených realizací projektu, včetně přesné identifikace nemovitosti, kde bude umístěn předmět podpor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Odborný posudek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včetně projektové dokumentace 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a položkového rozpočtu dle požadované struktury, zpracovaný osobou s osvědčením o autorizaci podle zákona č. 360/1992 Sb., o výkonu povolání autorizovaných architektů a o výkonu autorizovaných inženýrů a techniků činných ve výstavbě, ve znění pozdějších předpisů, pro obor: „stavby vodního hospodářství a krajinného inženýrství“, případně pro obor „vodohospodářské stavby“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491-BA7C-4D7C-8A92-EA3A9E5CCDB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5800" indent="-2358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povolení (případně doklad o projednání) příslušného vodoprávního úřadu k vypouštění odpadních vod do vod povrchových nebo podzemních pro potřeby jednotlivých občanů (domácností) a povolení k vypouštění odpadních vod k domovní čistírně odpadních vod potřebné k takovému nakládání dle § 8 odst. 1 písm. c) a § 15 vodního zákona (č. 254/2001 Sb.); musí být opatřeno doložkou nabytí právní moci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provozního řádu DČOV (pokud nebyl předložen jako příloha k ohlášení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dokumentace k zadávacímu řízení vč. platné smlouvy s dodavatelem stavby vč. položkového rozpočtu a/nebo faktury za dodávku a realizaci DČOV a souvisejících objektů, včetně činnosti pracovníka dohledu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případě vypouštění odpadních vod do vod povrchových kopie dokladu o skutečnosti, že použitá DČOV je výrobek označený CE podle zvláštního právního předpisu (§ 11 a 13 zákona č. 22/1997 Sb., o technických požadavcích na výrobky a o změně s doplnění některých zákonů, ve znění pozdějších předpisů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4CCD-2EC5-4D24-821A-97813893A1E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194-CB86-4195-AB57-FC6BCE1DE3B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958B-C1CE-49B2-ABB5-D67438DF0AE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30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4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34136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3280" indent="-2332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e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evence či omezení znečištění povrchových a podzemních vod z komunálních zdrojů prostřednictvím realizace soustav DČO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3280" indent="-2332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ýzva je zaměřena na podporu realizace soustav individuálních čistíren odpadních vod v podobě DČOV do kapacity 50 EO pro budovy využívané k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trvalému rodinnému bydlení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(zejména rodinné a bytové domy) a budovy ve vlastnictví dané obce, které nejsou užívány za účelem dosahování zisku, v oblastech, kde není z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technického či ekonomického hlediska možné připojit nemovitosti ke stokové síti zakončené ČOV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rámci této Výzvy jsou podporována opatření zaměřená na pořízení soustavy DČOV, které odpovídají požadavkům dle Přílohy č. 1 tab. 1c nařízení vlády č. 401/2015 Sb. (kategorie III výrobku označovaného CE) v případě vypouštění odpadních vod do vod povrchových, případně požadavkům dle nařízení vlády č. 57/2016 Sb. v případě vypouštění odpadních vod do vod podzemních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4FE-9FFE-467E-93D0-3EA18EE5CD9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4130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Obce, dobrovolné svazky obcí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Obchodní společnosti vlastněné z více než 50 % majetku obcemi a městy nebo jinými veřejnoprávními subjekty;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Spolky dle § 54 zákona č. 128/2000 Sb., o obcích (obecní zřízení), v platném znění, které nesmí být založeny za účelem podnikání, a jejichž hlavní činnosti jsou v souladu s podporovanými aktivitami Výzvy (např.: provozování vodovodů a kanalizací, čištění a odkanalizování odpadních vod, apod.)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1. 11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30. 11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0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6DC5-E6D2-4924-AB12-4BBBF90F4A5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4130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Maximální výše podpory na jednu DČOV činí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1 – 5 EO: 100 tis. Kč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6 – 15 EO: 170 tis. Kč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16 - 50 EO: 240 tis. Kč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aximální výše podpory na jeden projekt činí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80 %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  z celkových způsobilých výdajů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rojekty musí být realizovány do 31. 12. 2020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6C4-2E02-462D-9FF9-42F9DDBB5CD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pořízení zařízení DČOV zahrnující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up zařízení DČOV - v rámci této Výzvy jsou podporována opatření zaměřená na pořízení soustavy DČOV, které odpovídají požadavkům dle Přílohy č. 1 tab. 1c nařízení vlády č. 401/2015 Sb. (kategorie III výrobku označovaného CE) v případě vypouštění odpadních vod do vod povrchových, případně požadavkům dle nařízení vlády č. 57/2016 Sb. v případě vypouštění odpadních vod do vod podzemních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Instalaci a zprovoznění zařízení, zahrnující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alizace souvisejících stavebních prací a dodávek nezbytných pro instalaci a zprovoznění DČOV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Technologie pro nepřetržitý monitoring provozu všech DČOV provozovatelem, pro hlášení a evidenci poruch či závad způsobených neoprávněnou manipulací uživatele, včetně napojení všech realizovaných DČOV na tento systé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roškolení obsluhy zařízení DČOV i systému provozovatel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882A-080C-483F-843A-B2E4BB49BF2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4520" indent="-2545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projektovou přípravu (maximálně však do 10 % z celkových způsobilých výdajů), např.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rojektová dokumentace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Zadávací dokumentace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dborný posudek pro SFŽP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dborný posudek ve smyslu § 38 odst. 7 zákona č. 254/2001 Sb. v případě vypouštění odpadních vod do vod podzemních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11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zajištění servisu, pravidelné údržby a servisního monitoringu pro zajištění udržitelnosti projektu (po dobu 10 let od ukončení realizace projektu) příjemcem podpory budou-li součástí pořizovací ceny DČOV. Nebudou-li tyto výdaje zahrnuty do ceny za pořízení DČOV, jejich úhradu zajistí žadatel z vlastních prostředků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11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ublicitu projektu dle čl. 13.5 této Výzvy, maximálně však 5 tis. Kč (bez DPH)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EFD-675B-44B7-9D86-55738943BC6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jemce podpory je povinen zajistit </a:t>
            </a: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řádný a odborný provoz všech podpořených DČOV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 souladu s jejich platným provozním řádem. Nedílnou součástí provozu je </a:t>
            </a: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zajištění vzdáleného monitoringu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 všech podpořených DČOV, který bude v reálném čase hlásit a evidovat případné poruchy či závady, včetně neoprávněné manipulace, a to minimálně po celou dobu udržitelnosti definovanou dále v této Výzv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jemce podpory uzavře s vlastníkem objektu, pro který je realizován předmět podpory, smluvní vztah (konkrétní forma smluvního vztahu podléhá rozhodnutí příjemce podpory) vymezující práva a povinnosti související s realizací a provozem předmětu podpor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9437-1595-4193-B91D-F5FAF7C1989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Navržená soustava DČOV musí řešit napojení minimálně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30 % z celkového počtu EO v rámci řešeného území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. Základem pro určení splnění této podmínky se rozumí celkový počet EO domech užívaných pro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trvalé rodinné bydlení 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(tj. zejména v rodinných a bytových domech), které nejsou připojeny ke stokové síti zakončené ČOV a nemají instalován systém individuálního čištění odpadních vod. Volba řešeného území, včetně určení celkového počtu EO, musí být zdůvodněna v odborném posudku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zajistit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řádné nevratné a bezpečné odpojení původních jímek či septiků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 u nemovitostí, jež budou napojeny na novou DČOV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Řešené území se nachází v oblasti, kde není z technického či ekonomického hlediska výhledová možnost připojení ke stokové síti zakončené ČOV (dle strategických dokumentů: PRVKÚK, územní plán obce). Pro účely této výzvy je za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řešené území považováno území celé obce či prostorově oddělené části obce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A42-7A42-4694-BE0E-6367EF17986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268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2480" indent="-2224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zva je vyhlášena jako jednokolová. Při doručení Žádosti o poskytnutí podpory (dále jen “Žádost“) je rozhodující datum doručení na Fond, nikoliv datum předání poštovní přepravě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Žádosti budou podpořeny maximálně do výše disponibilní alokace Výzvy. V případě překročení alokace bude o podpoře Žádosti rozhodovat datum přijetí na Fond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22480" indent="-2224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případě, že dojde ke změně vlastnického práva k předmětu podpory po vydání Rozhodnutí a Smlouvy (např. z důvodu zániku spolku) až do konce doby udržitelnosti, je příjemce podpory povinen právně relevantním způsobem zavázat nového vlastníka k plnění podmínek stanovených v Rozhodnutí a Smlouvě. V případě, že tak neučiní, je povinen bezodkladně vrátit Fondu poskytnutou podporu v plné výš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106B-F1E8-45CF-BEF2-0B53635BE37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3:16:45Z</dcterms:modified>
  <cp:revision>207</cp:revision>
  <dc:subject/>
  <dc:title>Snímek 1</dc:title>
</cp:coreProperties>
</file>