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B96-8D12-4D6F-A847-03EB2921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ACB-89EB-414C-8DEF-3F6BACF7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A52-5427-4DB1-B282-8091DDDD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3C1-3DA8-4952-991A-7809CEA8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9A85-0414-46FF-B009-9141E1FF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2C88-EB50-49F8-A3AF-EEC1D356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D968-C658-454A-A247-69BB0660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460A-AF2E-44FD-96BD-8DFCEA49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B094-950E-4135-ACC2-320E6A18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0D88-0F58-4B79-B223-A2B4DF47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088A-2968-4321-9B98-C237BC95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155-CB63-4C38-8DD2-5D19AD4F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F72A-72CB-41A0-8E5F-11AEF9C3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B9DB-5F7B-46D9-93C0-D01106EA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6494-8ED1-4A78-8280-99A64991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D92D-D814-42B2-BDBB-EEF067F6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7AEF-BC3B-4D28-9655-378EC995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BB2-5B18-457D-91C2-5436FC1D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6FD-538E-4412-99C6-8FC1F9A4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3C86-76F4-414B-9749-79EAD470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C65-E062-4AE9-9640-0BDC9B18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47A-52F9-4254-8B94-597BE389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A9C4-B780-4AE8-B778-12A0CB8E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17C-DF88-43FB-BDD0-F7AD3F43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4507-C708-4071-B299-DE45C67779C5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SFZP_H_RGB_NEW"/>
          <p:cNvPicPr/>
          <p:nvPr/>
        </p:nvPicPr>
        <p:blipFill>
          <a:blip r:embed="rId2"/>
          <a:stretch/>
        </p:blipFill>
        <p:spPr>
          <a:xfrm>
            <a:off x="468360" y="1538280"/>
            <a:ext cx="374328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Obrázek 11" descr="Mozaika_prezentace_V.jpg"/>
          <p:cNvPicPr/>
          <p:nvPr/>
        </p:nvPicPr>
        <p:blipFill>
          <a:blip r:embed="rId3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C8EF-69F6-43FC-9E72-0A1655F79CB8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9440" y="157320"/>
            <a:ext cx="73771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 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3068280"/>
            <a:ext cx="73915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f9c35"/>
                </a:solidFill>
                <a:latin typeface="Arial Unicode MS"/>
              </a:rPr>
              <a:t>Podpora alternativních způsobů dopravy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68360" y="5776920"/>
            <a:ext cx="7056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Ing. Michal Slez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Ředitel odboru realizace Národních program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1D71-E523-472E-B2AB-035881C9A2D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ěkuji za pozornost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071960"/>
            <a:ext cx="705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chal Slezá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Ředitel odboru realizace Národních progra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692360" y="4935600"/>
            <a:ext cx="60944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eské republiky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aplanova 1931/1, 148 00 Praha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tel.: +420 267 994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jmeno.prijmeni@sfzp.cz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sfzp.cz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SFZP_H_RGB_NEW"/>
          <p:cNvPicPr/>
          <p:nvPr/>
        </p:nvPicPr>
        <p:blipFill>
          <a:blip r:embed="rId1"/>
          <a:srcRect l="0" t="0" r="71719" b="0"/>
          <a:stretch/>
        </p:blipFill>
        <p:spPr>
          <a:xfrm>
            <a:off x="539640" y="503244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123" name="Obrázek 7" descr="Mozaika_prezentace_V.jpg"/>
          <p:cNvPicPr/>
          <p:nvPr/>
        </p:nvPicPr>
        <p:blipFill>
          <a:blip r:embed="rId2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3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odpora alternativních způsobů doprav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600200"/>
            <a:ext cx="82152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5320" indent="-26532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Cíl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7200" indent="-28296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snížení negativních vlivů dopravy na zdraví obyvatel a životní prostředí, tj. zejména snížení emisí z dopravy a snížení hlukové zátěže, a to prostřednictvím podpory využívání vozidel s alternativním pohonem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5320" indent="-26532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Termíny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7200" indent="-28296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Zahájení příjmu žádostí 10. 11. 2016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7200" indent="-28296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Ukončení příjmu Žádostí 31. 3. 2017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65320" indent="-26532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Celková alokace: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00 mil Kč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7200" indent="-28296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80 mil. Kč je vyhrazeno na vozidla s pohonem plug-in hybrid a elektromobil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7200" indent="-28296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20 mil. Kč je vyhrazeno na vozidla s pohonem CNG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19EC-1C1F-4DFB-A4E8-2EB677FDB32A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3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Podpora alternativních způsobů dopravy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Podporované aktivit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ředmětem podpory je nákup nových nebo nově přestavěných vozidel s alternativním pohonem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25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 Unicode MS"/>
              </a:rPr>
              <a:t>Automobilem CNG se rozumí automobil, který má alespoň jednu pohonnou jednotku na zemní plyn CNG (platí tedy pro kombinaci s ostatními palivy).</a:t>
            </a:r>
            <a:endParaRPr b="0" lang="en-US" sz="17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25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 Unicode MS"/>
              </a:rPr>
              <a:t>Plug-in hybrid (PHEV) se rozumí vozidlo s více pohonnými jednotkami, které disponuje elektrickým pohonem a lze jej dobíjet z externího zdroje elektrické energie.</a:t>
            </a:r>
            <a:endParaRPr b="0" lang="en-US" sz="17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25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 Unicode MS"/>
              </a:rPr>
              <a:t>Elektromobilem se rozumí vozidlo výhradně s elektro pohonem, a to:</a:t>
            </a:r>
            <a:endParaRPr b="0" lang="en-US" sz="17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374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 Unicode MS"/>
              </a:rPr>
              <a:t>BEV – vozidlo s bateriovým pohonem,</a:t>
            </a: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374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 Unicode MS"/>
              </a:rPr>
              <a:t>EREV – výhradně elektrické vozidlo s prodlouženým dojezdem (za pomoci částečného dobíjení akumulátorů jednotkou se spalovacím motorem).</a:t>
            </a: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45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BA78-1033-44E4-BBB5-0A85FC41B108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3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Podpora alternativních způsobů dopravy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1599840"/>
            <a:ext cx="82152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Forma a výše podpor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45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ED61-19A9-4960-8ED6-35B631EA07B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2060640"/>
          <a:ext cx="8215200" cy="3038400"/>
        </p:xfrm>
        <a:graphic>
          <a:graphicData uri="http://schemas.openxmlformats.org/drawingml/2006/table">
            <a:tbl>
              <a:tblPr/>
              <a:tblGrid>
                <a:gridCol w="3849480"/>
                <a:gridCol w="1165320"/>
                <a:gridCol w="1513080"/>
                <a:gridCol w="1687320"/>
              </a:tblGrid>
              <a:tr h="338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yp vozidla/Podpo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lektromob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ug-in hyb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6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1 (osobní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2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1 (nákladní menší do 2,5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2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1 (nákladní menší od 2,5-3,5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2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6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7E (malá užitková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4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1E, L2E (motorky do 45 km/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62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3E, L4E, L5E, L6E (nad 45 km/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4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2, M3 do 7,5t (minibu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0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2 do 12t (nákladní střední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01" name="TextovéPole 4"/>
          <p:cNvSpPr/>
          <p:nvPr/>
        </p:nvSpPr>
        <p:spPr>
          <a:xfrm>
            <a:off x="468360" y="5445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onus za ekologicky zlikvidované staré vozid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káže-li žadatel ekologickou likvidaci starého vozidla emisní třídy EURO 3 a nižší, má nárok na fixní bonus 10 tis. Kč za každé zlikvidované vozidlo, které bude nahrazeno novým vozidlem s alternativním pohon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3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odpora alternativních způsobů doprav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600200"/>
            <a:ext cx="82152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Oprávnění příjemci podpor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územní samosprávné celky (obce a kraje) a městské části hlavního města Prahy,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svazky obcí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příspěvkové organizace územních samosprávných celků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obecně prospěšné společnosti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spolky a pobočné spolky založené obcí či krajem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akciové společnosti vlastněné z více než 50 procenty obcí či krajem,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společnosti s ručením omezeným vlastněné z více než 50 procenty obcí či krajem.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DA97-0D40-44BD-BF9B-6262D20C81E6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3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Podpora alternativních způsobů dopravy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130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1200" indent="-241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Administrac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87080" indent="-25704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Výzva je vyhlášena jako jednokolová nesoutěžní. Podpořeny mohou být pouze úplné a formálně správné Žádosti, které splní podmínky stanovené Směrnicí MŽP č. 4/2015, Programem a touto Výzvou, a to maximálně do výše disponibilní alokace Výzvy (rozhoduje datum přijetí žádosti na Fond).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marL="241200" indent="-241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měny projektu 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87080" indent="-25704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Příjemce podpory je povinen oznámit Fondu jakékoliv změny (identifikačních a kontaktních údajů, parametrů projektu, podmínek realizace projektu, skutečností a podmínek obsažených ve Smlouvě aj.) a to od předložení žádosti do uplynutí doby udržitelnosti. 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1" marL="487080" indent="-25704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Fond je povinen posoudit avizované změny a jejich soulad s podmínkami Programu a změnu dle posouzení buď odsouhlasí, nebo zamítne. Změna podmínek podléhá vždy souhlasu Fondu a může opravňovat Fond k odstoupení od Smlouvy či k uplatnění smluvních sankcí. 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302A-749D-432D-A519-06DC8F672145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3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Podpora alternativních způsobů dopravy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okumenty předkládané k Žádosti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720720" indent="-4572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opis realizace projektu, ve kterém žadatel odůvodní potřebnost a hospodárnost provozu a uvede technické specifikace pořizovaných vozidel s alternativním pohonem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720720" indent="-4572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Doložení předpokládané výše investice, tzn. cenová nabídka, případně ceník dokládající cenu vozidla/vozidel, které žadatel zamýšlí v rámci této Výzvy zakoupit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720720" indent="-4572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Dokumenty k veřejné podpoře (jsou-li pro daný případ relevantní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F350-DBEF-4F8D-A056-A6815040CAC2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3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Podpora alternativních způsobů dopravy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49120" indent="-24912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okumenty předkládané ke Smlouvě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9960" indent="-42516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Kopie dokumentace k zadávacímu řízení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9960" indent="-42516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Dokumenty k veřejné podpoře (jsou-li pro daný případ relevantní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289080" indent="-28908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okumenty předkládané k žádosti o uvolnění FP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9960" indent="-42516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Kopie faktur a ostatních účetních dokladů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9960" indent="-42516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Kopie bankovních výpisů prokazující uhrazení faktur a účetních dokladů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9960" indent="-42516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 případě využití bonusu za ekologickou likvidaci starého vozidl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047960" indent="-42516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Potvrzení o ekologické likvidaci vozidla/vozidel včetně uvedení emisní normy ekologicky zlikvidovaných vozidel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047960" indent="-42516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Relevantní dokument dokládající dobu vlastnictví ekologicky zlikvidovaného vozidla/vozidel (např. kopie kupní smlouvy, výpis z registru silničních vozidel)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BF50-3D00-461D-8F36-D7E965D095C2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Diskuz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000000"/>
                </a:solidFill>
                <a:latin typeface="Arial Unicode MS"/>
              </a:rPr>
              <a:t>Prostor pro vaše dotazy. </a:t>
            </a:r>
            <a:endParaRPr b="1" lang="en-US" sz="3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E92D-320C-455A-830C-8A67374CE5C8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11:54Z</dcterms:created>
  <dc:creator>mpecnova</dc:creator>
  <dc:description/>
  <dc:language>en-US</dc:language>
  <cp:lastModifiedBy>Slezak Michal</cp:lastModifiedBy>
  <dcterms:modified xsi:type="dcterms:W3CDTF">2016-11-10T15:03:15Z</dcterms:modified>
  <cp:revision>198</cp:revision>
  <dc:subject/>
  <dc:title>Snímek 1</dc:title>
</cp:coreProperties>
</file>